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D6-B19B-461C-B6E0-9A14350A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622-7212-402C-B2AD-A4DCCA39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205-47D7-45B7-9790-69625C3E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E5F-33FB-4EF5-A4B2-9C509D42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51A-0D3C-4452-97F2-769B3CED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99F3-890E-4B85-8E9E-21DC9DB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7ED-BA45-4C12-920C-9E5E8849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154-D31F-4885-8238-90E5C65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779F-9A81-4841-9E52-C289927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BC4F-F8F8-4B7B-AD53-53DBCE9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BB2-3D88-4F75-BCAE-A3514757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659-A4B6-4708-A179-5A1D6162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819-7FA9-406B-8152-BC6CA4D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A6F-7908-41D9-87E9-F74E0EF0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CAE-FFE8-4009-AF3A-32E08761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C444-6303-4016-88E3-4BD181D6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D51-99B3-4727-895F-F3804A5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8A5-177F-424E-A44D-FAEAAA9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778-B850-4013-9115-53E095A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5F5-B983-481F-AD9B-FC17BF6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908-B382-455E-8A7D-63360497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B42-1C2F-4544-8E5C-B12CD3B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1E3-5E76-4258-9DF5-AF2EC51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E34-4124-4D56-9F41-5EF77F7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4A5-DD06-4704-B9A8-B989AFA607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3FA5-FD60-418C-B4AD-4D886D7F48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48520" y="1066680"/>
            <a:ext cx="57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Introducción al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icrocontro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16280" y="16765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 I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quitectura Gen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2320" y="52578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guel Her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2680" y="563868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ego Rodríguez Lo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3-763_Stamp2E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174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Mapa de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direcciones: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un 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95280" y="1676520"/>
            <a:ext cx="7391520" cy="4176720"/>
            <a:chOff x="1295280" y="1676520"/>
            <a:chExt cx="7391520" cy="4176720"/>
          </a:xfrm>
        </p:grpSpPr>
        <p:sp>
          <p:nvSpPr>
            <p:cNvPr id="350" name=""/>
            <p:cNvSpPr/>
            <p:nvPr/>
          </p:nvSpPr>
          <p:spPr>
            <a:xfrm>
              <a:off x="8077320" y="1676520"/>
              <a:ext cx="380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9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77320" y="2438280"/>
              <a:ext cx="380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9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295280" y="1738440"/>
              <a:ext cx="7391520" cy="4114800"/>
              <a:chOff x="1295280" y="1738440"/>
              <a:chExt cx="7391520" cy="4114800"/>
            </a:xfrm>
          </p:grpSpPr>
          <p:sp>
            <p:nvSpPr>
              <p:cNvPr id="353" name=""/>
              <p:cNvSpPr/>
              <p:nvPr/>
            </p:nvSpPr>
            <p:spPr>
              <a:xfrm>
                <a:off x="1295280" y="1738440"/>
                <a:ext cx="685800" cy="4114800"/>
              </a:xfrm>
              <a:prstGeom prst="rect">
                <a:avLst/>
              </a:prstGeom>
              <a:solidFill>
                <a:srgbClr val="a1b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81080" y="181440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81080" y="196704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81080" y="211932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81080" y="204300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1080" y="189072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81080" y="219564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81080" y="227160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81080" y="234792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81080" y="242424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81080" y="250020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1080" y="257652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343400" y="1814400"/>
                <a:ext cx="685800" cy="1524240"/>
                <a:chOff x="4343400" y="1814400"/>
                <a:chExt cx="685800" cy="1524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343400" y="2957400"/>
                  <a:ext cx="685800" cy="381240"/>
                </a:xfrm>
                <a:prstGeom prst="rect">
                  <a:avLst/>
                </a:prstGeom>
                <a:solidFill>
                  <a:srgbClr val="906d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53240" y="18144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876920" y="18907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00600" y="196704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724640" y="2043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48320" y="21193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572000" y="219564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96040" y="22716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19720" y="23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257800" y="1814400"/>
                <a:ext cx="685800" cy="1524240"/>
                <a:chOff x="5257800" y="1814400"/>
                <a:chExt cx="685800" cy="15242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257800" y="2957400"/>
                  <a:ext cx="685800" cy="381240"/>
                </a:xfrm>
                <a:prstGeom prst="rect">
                  <a:avLst/>
                </a:prstGeom>
                <a:solidFill>
                  <a:srgbClr val="906d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67640" y="18144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91320" y="18907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715000" y="196704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639040" y="2043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562720" y="21193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486400" y="219564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10440" y="22716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334120" y="23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429000" y="1814400"/>
                <a:ext cx="685800" cy="1524240"/>
                <a:chOff x="3429000" y="1814400"/>
                <a:chExt cx="685800" cy="1524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429000" y="2957400"/>
                  <a:ext cx="685800" cy="381240"/>
                </a:xfrm>
                <a:prstGeom prst="rect">
                  <a:avLst/>
                </a:prstGeom>
                <a:solidFill>
                  <a:srgbClr val="906d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038840" y="18144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962520" y="18907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886200" y="196704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810240" y="2043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733920" y="21193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57600" y="219564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581640" y="22716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505320" y="23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286000" y="2424240"/>
                <a:ext cx="685800" cy="1218960"/>
                <a:chOff x="2286000" y="2424240"/>
                <a:chExt cx="685800" cy="1218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514600" y="2957400"/>
                  <a:ext cx="457200" cy="6858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286000" y="25765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362320" y="250020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38280" y="24242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86000" y="34146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362320" y="3262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438280" y="3110040"/>
                  <a:ext cx="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3352680" y="31100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1120" y="311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05520" y="311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71800" y="30337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71800" y="31100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71800" y="3186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71800" y="32623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71800" y="33386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1800" y="3414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71800" y="34909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71800" y="35672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48120" y="3033720"/>
                <a:ext cx="304560" cy="763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0" y="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192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048120" y="3100320"/>
                <a:ext cx="1152360" cy="314280"/>
              </a:xfrm>
              <a:custGeom>
                <a:avLst/>
                <a:gdLst/>
                <a:ahLst/>
                <a:rect l="l" t="t" r="r" b="b"/>
                <a:pathLst>
                  <a:path w="726" h="198">
                    <a:moveTo>
                      <a:pt x="0" y="6"/>
                    </a:moveTo>
                    <a:lnTo>
                      <a:pt x="48" y="6"/>
                    </a:lnTo>
                    <a:lnTo>
                      <a:pt x="240" y="198"/>
                    </a:lnTo>
                    <a:lnTo>
                      <a:pt x="726" y="198"/>
                    </a:lnTo>
                    <a:lnTo>
                      <a:pt x="7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48120" y="3110040"/>
                <a:ext cx="2057400" cy="390240"/>
              </a:xfrm>
              <a:custGeom>
                <a:avLst/>
                <a:gdLst/>
                <a:ahLst/>
                <a:rect l="l" t="t" r="r" b="b"/>
                <a:pathLst>
                  <a:path w="1296" h="246">
                    <a:moveTo>
                      <a:pt x="0" y="48"/>
                    </a:moveTo>
                    <a:lnTo>
                      <a:pt x="48" y="48"/>
                    </a:lnTo>
                    <a:lnTo>
                      <a:pt x="240" y="240"/>
                    </a:lnTo>
                    <a:lnTo>
                      <a:pt x="1296" y="246"/>
                    </a:lnTo>
                    <a:lnTo>
                      <a:pt x="129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286320" y="1814400"/>
                <a:ext cx="1143000" cy="2313000"/>
                <a:chOff x="6286320" y="1814400"/>
                <a:chExt cx="1143000" cy="23130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7391520" y="181440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38880" y="189072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86600" y="196704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043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81680" y="21193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629400" y="219564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477120" y="22716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324480" y="23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5400000">
                  <a:off x="6436800" y="3422520"/>
                  <a:ext cx="228600" cy="228600"/>
                </a:xfrm>
                <a:prstGeom prst="flowChartDelay">
                  <a:avLst/>
                </a:prstGeom>
                <a:solidFill>
                  <a:srgbClr val="fefd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6590880" y="2957400"/>
                  <a:ext cx="228600" cy="304920"/>
                  <a:chOff x="6590880" y="2957400"/>
                  <a:chExt cx="228600" cy="3049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5400000">
                    <a:off x="6590880" y="3033720"/>
                    <a:ext cx="228600" cy="228600"/>
                  </a:xfrm>
                  <a:prstGeom prst="flowChartDelay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5400000">
                    <a:off x="6743160" y="2957400"/>
                    <a:ext cx="76320" cy="7596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5400000">
                    <a:off x="6590880" y="2957400"/>
                    <a:ext cx="76320" cy="7632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895800" y="2957400"/>
                  <a:ext cx="228600" cy="304920"/>
                  <a:chOff x="6895800" y="2957400"/>
                  <a:chExt cx="228600" cy="3049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5400000">
                    <a:off x="6895800" y="3033720"/>
                    <a:ext cx="228600" cy="228600"/>
                  </a:xfrm>
                  <a:prstGeom prst="flowChartDelay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5400000">
                    <a:off x="7048080" y="2957400"/>
                    <a:ext cx="76320" cy="7596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5400000">
                    <a:off x="6895800" y="2957400"/>
                    <a:ext cx="76320" cy="7632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200720" y="2957400"/>
                  <a:ext cx="228600" cy="304920"/>
                  <a:chOff x="7200720" y="2957400"/>
                  <a:chExt cx="228600" cy="3049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7200720" y="3033720"/>
                    <a:ext cx="228600" cy="228600"/>
                  </a:xfrm>
                  <a:prstGeom prst="flowChartDelay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5400000">
                    <a:off x="7353000" y="2957400"/>
                    <a:ext cx="76320" cy="7596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5400000">
                    <a:off x="7200720" y="2957400"/>
                    <a:ext cx="76320" cy="7632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6286320" y="2957400"/>
                  <a:ext cx="228600" cy="304920"/>
                  <a:chOff x="6286320" y="2957400"/>
                  <a:chExt cx="228600" cy="3049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5400000">
                    <a:off x="6286320" y="3033720"/>
                    <a:ext cx="228600" cy="228600"/>
                  </a:xfrm>
                  <a:prstGeom prst="flowChartDelay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5400000">
                    <a:off x="6438600" y="2957400"/>
                    <a:ext cx="76320" cy="7596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5400000">
                    <a:off x="6286320" y="2957400"/>
                    <a:ext cx="76320" cy="76320"/>
                  </a:xfrm>
                  <a:prstGeom prst="ellipse">
                    <a:avLst/>
                  </a:prstGeom>
                  <a:solidFill>
                    <a:srgbClr val="fefd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rot="5400000">
                  <a:off x="7056000" y="3413160"/>
                  <a:ext cx="228600" cy="228600"/>
                </a:xfrm>
                <a:prstGeom prst="flowChartDelay">
                  <a:avLst/>
                </a:prstGeom>
                <a:solidFill>
                  <a:srgbClr val="fefd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5400000">
                  <a:off x="6722640" y="3898800"/>
                  <a:ext cx="228600" cy="228600"/>
                </a:xfrm>
                <a:prstGeom prst="flowChartDelay">
                  <a:avLst/>
                </a:prstGeom>
                <a:solidFill>
                  <a:srgbClr val="fefd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6400800" y="3271680"/>
                  <a:ext cx="314280" cy="152640"/>
                  <a:chOff x="6400800" y="3271680"/>
                  <a:chExt cx="314280" cy="1526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6400800" y="3271680"/>
                    <a:ext cx="1144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96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72" y="36"/>
                        </a:lnTo>
                        <a:lnTo>
                          <a:pt x="72" y="9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620040" y="3271680"/>
                    <a:ext cx="9504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96">
                        <a:moveTo>
                          <a:pt x="60" y="0"/>
                        </a:moveTo>
                        <a:lnTo>
                          <a:pt x="60" y="36"/>
                        </a:lnTo>
                        <a:lnTo>
                          <a:pt x="0" y="36"/>
                        </a:lnTo>
                        <a:lnTo>
                          <a:pt x="0" y="9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7000920" y="3262320"/>
                  <a:ext cx="314280" cy="152280"/>
                  <a:chOff x="7000920" y="3262320"/>
                  <a:chExt cx="314280" cy="1522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7000920" y="3262320"/>
                    <a:ext cx="1144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96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72" y="36"/>
                        </a:lnTo>
                        <a:lnTo>
                          <a:pt x="72" y="9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220160" y="3262320"/>
                    <a:ext cx="950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96">
                        <a:moveTo>
                          <a:pt x="60" y="0"/>
                        </a:moveTo>
                        <a:lnTo>
                          <a:pt x="60" y="36"/>
                        </a:lnTo>
                        <a:lnTo>
                          <a:pt x="0" y="36"/>
                        </a:lnTo>
                        <a:lnTo>
                          <a:pt x="0" y="9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>
                  <a:off x="6572160" y="3652920"/>
                  <a:ext cx="209520" cy="247680"/>
                </a:xfrm>
                <a:custGeom>
                  <a:avLst/>
                  <a:gdLst/>
                  <a:ahLst/>
                  <a:rect l="l" t="t" r="r" b="b"/>
                  <a:pathLst>
                    <a:path w="132" h="156">
                      <a:moveTo>
                        <a:pt x="0" y="0"/>
                      </a:moveTo>
                      <a:lnTo>
                        <a:pt x="6" y="54"/>
                      </a:lnTo>
                      <a:lnTo>
                        <a:pt x="132" y="54"/>
                      </a:lnTo>
                      <a:lnTo>
                        <a:pt x="132" y="1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905520" y="3643200"/>
                  <a:ext cx="266760" cy="266760"/>
                </a:xfrm>
                <a:custGeom>
                  <a:avLst/>
                  <a:gdLst/>
                  <a:ahLst/>
                  <a:rect l="l" t="t" r="r" b="b"/>
                  <a:pathLst>
                    <a:path w="168" h="168">
                      <a:moveTo>
                        <a:pt x="168" y="0"/>
                      </a:moveTo>
                      <a:lnTo>
                        <a:pt x="168" y="66"/>
                      </a:lnTo>
                      <a:lnTo>
                        <a:pt x="0" y="72"/>
                      </a:lnTo>
                      <a:lnTo>
                        <a:pt x="0" y="16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7458120" y="4262400"/>
                <a:ext cx="762120" cy="447840"/>
              </a:xfrm>
              <a:prstGeom prst="rect">
                <a:avLst/>
              </a:prstGeom>
              <a:solidFill>
                <a:srgbClr val="3694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01080" y="4424400"/>
                <a:ext cx="24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48120" y="3262320"/>
                <a:ext cx="3962160" cy="1219320"/>
              </a:xfrm>
              <a:custGeom>
                <a:avLst/>
                <a:gdLst/>
                <a:ahLst/>
                <a:rect l="l" t="t" r="r" b="b"/>
                <a:pathLst>
                  <a:path w="2496" h="768">
                    <a:moveTo>
                      <a:pt x="0" y="0"/>
                    </a:moveTo>
                    <a:lnTo>
                      <a:pt x="48" y="0"/>
                    </a:lnTo>
                    <a:lnTo>
                      <a:pt x="816" y="768"/>
                    </a:lnTo>
                    <a:lnTo>
                      <a:pt x="2496" y="76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858000" y="4100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96" h="192">
                    <a:moveTo>
                      <a:pt x="0" y="0"/>
                    </a:moveTo>
                    <a:lnTo>
                      <a:pt x="0" y="192"/>
                    </a:lnTo>
                    <a:lnTo>
                      <a:pt x="96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10280" y="4319640"/>
                <a:ext cx="190800" cy="209520"/>
              </a:xfrm>
              <a:prstGeom prst="flowChartDelay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305920" y="432900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6200000">
                <a:off x="2370600" y="3176640"/>
                <a:ext cx="71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Dec 3/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51960" y="2957400"/>
                <a:ext cx="77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M 256x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06040" y="3186000"/>
                <a:ext cx="55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PRO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420800" y="3186000"/>
                <a:ext cx="41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35200" y="3186000"/>
                <a:ext cx="41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66360" y="2957400"/>
                <a:ext cx="77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M 256x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80760" y="2957400"/>
                <a:ext cx="77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M 256x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92960" y="4329000"/>
                <a:ext cx="816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uerto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981080" y="4633920"/>
                <a:ext cx="54864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67080" y="3262320"/>
                <a:ext cx="76320" cy="1371600"/>
              </a:xfrm>
              <a:custGeom>
                <a:avLst/>
                <a:gdLst/>
                <a:ahLst/>
                <a:rect l="l" t="t" r="r" b="b"/>
                <a:pathLst>
                  <a:path w="48" h="864">
                    <a:moveTo>
                      <a:pt x="0" y="864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81480" y="3262320"/>
                <a:ext cx="76320" cy="1371600"/>
              </a:xfrm>
              <a:custGeom>
                <a:avLst/>
                <a:gdLst/>
                <a:ahLst/>
                <a:rect l="l" t="t" r="r" b="b"/>
                <a:pathLst>
                  <a:path w="48" h="864">
                    <a:moveTo>
                      <a:pt x="0" y="864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439360" y="4481640"/>
                <a:ext cx="378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R/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81080" y="516744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81080" y="531972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81080" y="547200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81080" y="539604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81080" y="524340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81080" y="554832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81080" y="562464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81080" y="5700600"/>
                <a:ext cx="61722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3505320" y="3338640"/>
                <a:ext cx="533160" cy="2361960"/>
                <a:chOff x="3505320" y="3338640"/>
                <a:chExt cx="533160" cy="2361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505320" y="333864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1280" y="3338640"/>
                  <a:ext cx="0" cy="19047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57600" y="333864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733920" y="333864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09880" y="3338640"/>
                  <a:ext cx="0" cy="21333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86200" y="3338640"/>
                  <a:ext cx="0" cy="22096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962520" y="333864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038480" y="3338640"/>
                  <a:ext cx="0" cy="23619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419720" y="3338640"/>
                <a:ext cx="533160" cy="2361960"/>
                <a:chOff x="4419720" y="3338640"/>
                <a:chExt cx="533160" cy="2361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419720" y="333864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95680" y="3338640"/>
                  <a:ext cx="0" cy="19047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572000" y="333864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648320" y="333864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724280" y="3338640"/>
                  <a:ext cx="0" cy="21333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00600" y="3338640"/>
                  <a:ext cx="0" cy="22096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876920" y="333864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952880" y="3338640"/>
                  <a:ext cx="0" cy="23619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5334120" y="3338640"/>
                <a:ext cx="533160" cy="2361960"/>
                <a:chOff x="5334120" y="3338640"/>
                <a:chExt cx="533160" cy="2361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5334120" y="333864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410080" y="3338640"/>
                  <a:ext cx="0" cy="19047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486400" y="333864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62720" y="333864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38680" y="3338640"/>
                  <a:ext cx="0" cy="21333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15000" y="3338640"/>
                  <a:ext cx="0" cy="220968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791320" y="333864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867280" y="3338640"/>
                  <a:ext cx="0" cy="236196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miter/>
                  <a:tailEnd len="sm" type="diamond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7543800" y="4710240"/>
                <a:ext cx="0" cy="457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20120" y="4710240"/>
                <a:ext cx="0" cy="5331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696080" y="4710240"/>
                <a:ext cx="0" cy="6094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72400" y="4710240"/>
                <a:ext cx="0" cy="6858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48720" y="4710240"/>
                <a:ext cx="0" cy="7617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24680" y="4710240"/>
                <a:ext cx="0" cy="8380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01000" y="4710240"/>
                <a:ext cx="0" cy="9144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77320" y="4710240"/>
                <a:ext cx="0" cy="990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  <a:tailEnd len="sm" type="diamond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6200000">
                <a:off x="868680" y="3843000"/>
                <a:ext cx="143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Microcontrolad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95280" y="1738440"/>
                <a:ext cx="685800" cy="4114800"/>
              </a:xfrm>
              <a:custGeom>
                <a:avLst/>
                <a:gdLst/>
                <a:ahLst/>
                <a:rect l="l" t="t" r="r" b="b"/>
                <a:pathLst>
                  <a:path w="432" h="2592">
                    <a:moveTo>
                      <a:pt x="0" y="0"/>
                    </a:moveTo>
                    <a:lnTo>
                      <a:pt x="432" y="0"/>
                    </a:lnTo>
                    <a:lnTo>
                      <a:pt x="432" y="2592"/>
                    </a:lnTo>
                    <a:lnTo>
                      <a:pt x="0" y="25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2057400" y="3733920"/>
            <a:ext cx="1066680" cy="304560"/>
            <a:chOff x="2057400" y="3733920"/>
            <a:chExt cx="1066680" cy="304560"/>
          </a:xfrm>
        </p:grpSpPr>
        <p:sp>
          <p:nvSpPr>
            <p:cNvPr id="517" name=""/>
            <p:cNvSpPr/>
            <p:nvPr/>
          </p:nvSpPr>
          <p:spPr>
            <a:xfrm>
              <a:off x="2133720" y="3733920"/>
              <a:ext cx="914400" cy="304560"/>
            </a:xfrm>
            <a:prstGeom prst="borderCallout1">
              <a:avLst>
                <a:gd name="adj1" fmla="val 18750"/>
                <a:gd name="adj2" fmla="val -8333"/>
                <a:gd name="adj3" fmla="val -168750"/>
                <a:gd name="adj4" fmla="val 153125"/>
              </a:avLst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57400" y="37339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x000-0x0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200400" y="3809880"/>
            <a:ext cx="1066680" cy="304920"/>
            <a:chOff x="3200400" y="3809880"/>
            <a:chExt cx="1066680" cy="304920"/>
          </a:xfrm>
        </p:grpSpPr>
        <p:sp>
          <p:nvSpPr>
            <p:cNvPr id="520" name=""/>
            <p:cNvSpPr/>
            <p:nvPr/>
          </p:nvSpPr>
          <p:spPr>
            <a:xfrm>
              <a:off x="3276720" y="3809880"/>
              <a:ext cx="914400" cy="304920"/>
            </a:xfrm>
            <a:prstGeom prst="borderCallout1">
              <a:avLst>
                <a:gd name="adj1" fmla="val 18750"/>
                <a:gd name="adj2" fmla="val -8333"/>
                <a:gd name="adj3" fmla="val -168750"/>
                <a:gd name="adj4" fmla="val 153125"/>
              </a:avLst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38098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x100-0x1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419720" y="3809880"/>
            <a:ext cx="1066680" cy="304920"/>
            <a:chOff x="4419720" y="3809880"/>
            <a:chExt cx="1066680" cy="304920"/>
          </a:xfrm>
        </p:grpSpPr>
        <p:sp>
          <p:nvSpPr>
            <p:cNvPr id="523" name=""/>
            <p:cNvSpPr/>
            <p:nvPr/>
          </p:nvSpPr>
          <p:spPr>
            <a:xfrm>
              <a:off x="4495680" y="3809880"/>
              <a:ext cx="914400" cy="304920"/>
            </a:xfrm>
            <a:prstGeom prst="borderCallout1">
              <a:avLst>
                <a:gd name="adj1" fmla="val 18750"/>
                <a:gd name="adj2" fmla="val -8333"/>
                <a:gd name="adj3" fmla="val -168750"/>
                <a:gd name="adj4" fmla="val 153125"/>
              </a:avLst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19720" y="38098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x200-0x2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400800" y="5029200"/>
            <a:ext cx="762120" cy="304920"/>
            <a:chOff x="6400800" y="5029200"/>
            <a:chExt cx="762120" cy="304920"/>
          </a:xfrm>
        </p:grpSpPr>
        <p:sp>
          <p:nvSpPr>
            <p:cNvPr id="526" name=""/>
            <p:cNvSpPr/>
            <p:nvPr/>
          </p:nvSpPr>
          <p:spPr>
            <a:xfrm>
              <a:off x="6400800" y="5029200"/>
              <a:ext cx="685800" cy="304920"/>
            </a:xfrm>
            <a:prstGeom prst="borderCallout1">
              <a:avLst>
                <a:gd name="adj1" fmla="val 18750"/>
                <a:gd name="adj2" fmla="val -8333"/>
                <a:gd name="adj3" fmla="val -168750"/>
                <a:gd name="adj4" fmla="val 170833"/>
              </a:avLst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50292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0x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El núcleo: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la </a:t>
            </a:r>
            <a:r>
              <a:rPr b="1" lang="es-ES_tradnl" sz="2800" spc="-1" strike="noStrike">
                <a:solidFill>
                  <a:srgbClr val="ff6600"/>
                </a:solidFill>
                <a:latin typeface="Broadway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86000" y="1905120"/>
            <a:ext cx="4268880" cy="3041640"/>
            <a:chOff x="2286000" y="1905120"/>
            <a:chExt cx="4268880" cy="3041640"/>
          </a:xfrm>
        </p:grpSpPr>
        <p:sp>
          <p:nvSpPr>
            <p:cNvPr id="530" name=""/>
            <p:cNvSpPr/>
            <p:nvPr/>
          </p:nvSpPr>
          <p:spPr>
            <a:xfrm>
              <a:off x="2286000" y="1905120"/>
              <a:ext cx="2286000" cy="1523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Arial"/>
                </a:rPr>
                <a:t>¡Preparens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3809880" y="2438280"/>
              <a:ext cx="2745000" cy="250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La CPU por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00200" y="1752480"/>
            <a:ext cx="6019920" cy="4496040"/>
            <a:chOff x="1600200" y="1752480"/>
            <a:chExt cx="6019920" cy="4496040"/>
          </a:xfrm>
        </p:grpSpPr>
        <p:sp>
          <p:nvSpPr>
            <p:cNvPr id="534" name=""/>
            <p:cNvSpPr/>
            <p:nvPr/>
          </p:nvSpPr>
          <p:spPr>
            <a:xfrm>
              <a:off x="1886760" y="2608560"/>
              <a:ext cx="2006640" cy="107028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0" y="0"/>
                  </a:moveTo>
                  <a:lnTo>
                    <a:pt x="336" y="720"/>
                  </a:lnTo>
                  <a:lnTo>
                    <a:pt x="1104" y="720"/>
                  </a:lnTo>
                  <a:lnTo>
                    <a:pt x="1488" y="0"/>
                  </a:lnTo>
                  <a:lnTo>
                    <a:pt x="816" y="0"/>
                  </a:lnTo>
                  <a:lnTo>
                    <a:pt x="720" y="240"/>
                  </a:ln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5120" y="2251800"/>
              <a:ext cx="93168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33720" y="2251800"/>
              <a:ext cx="93132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88600" y="3822120"/>
              <a:ext cx="93132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254920" y="2251800"/>
              <a:ext cx="931680" cy="855720"/>
              <a:chOff x="5254920" y="2251800"/>
              <a:chExt cx="931680" cy="855720"/>
            </a:xfrm>
          </p:grpSpPr>
          <p:sp>
            <p:nvSpPr>
              <p:cNvPr id="539" name=""/>
              <p:cNvSpPr/>
              <p:nvPr/>
            </p:nvSpPr>
            <p:spPr>
              <a:xfrm>
                <a:off x="5254920" y="2251800"/>
                <a:ext cx="931680" cy="2138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254920" y="2465640"/>
                <a:ext cx="931680" cy="2138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4920" y="2679840"/>
                <a:ext cx="931680" cy="2138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54920" y="2893680"/>
                <a:ext cx="931680" cy="21384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5183640" y="3822120"/>
              <a:ext cx="93132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9880" y="3822120"/>
              <a:ext cx="93168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600" y="4678560"/>
              <a:ext cx="931320" cy="21384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44960" y="5320800"/>
              <a:ext cx="1074960" cy="4280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9960" y="5320800"/>
              <a:ext cx="931680" cy="4280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8560" y="4178880"/>
              <a:ext cx="1719720" cy="4280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2316600" y="2037960"/>
              <a:ext cx="343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538520" y="3536640"/>
              <a:ext cx="222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2889720" y="4250160"/>
              <a:ext cx="164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818080" y="4535640"/>
              <a:ext cx="171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818080" y="5106600"/>
              <a:ext cx="171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90080" y="403632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18440" y="45356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18440" y="510660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16960" y="203796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4840" y="203796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6760" y="203796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13480" y="35366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60080" y="35366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94880" y="1752480"/>
              <a:ext cx="358200" cy="3568320"/>
            </a:xfrm>
            <a:prstGeom prst="upDownArrow">
              <a:avLst>
                <a:gd name="adj1" fmla="val 85000"/>
                <a:gd name="adj2" fmla="val 40262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90080" y="36792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16960" y="2466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34840" y="2466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13480" y="40363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60080" y="40363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43680" y="4606920"/>
              <a:ext cx="286200" cy="1641240"/>
            </a:xfrm>
            <a:prstGeom prst="upDownArrow">
              <a:avLst>
                <a:gd name="adj1" fmla="val 56250"/>
                <a:gd name="adj2" fmla="val 654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94880" y="5749200"/>
              <a:ext cx="286560" cy="499320"/>
            </a:xfrm>
            <a:prstGeom prst="upDownArrow">
              <a:avLst>
                <a:gd name="adj1" fmla="val 56250"/>
                <a:gd name="adj2" fmla="val 571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75160" y="5749200"/>
              <a:ext cx="286560" cy="499320"/>
            </a:xfrm>
            <a:prstGeom prst="upDownArrow">
              <a:avLst>
                <a:gd name="adj1" fmla="val 56250"/>
                <a:gd name="adj2" fmla="val 571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00200" y="1752480"/>
              <a:ext cx="6019920" cy="428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592360" y="3124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16040" y="4648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.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3544560" y="316404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us de Datos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5840" y="419112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olador 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57640" y="380988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umul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29880" y="224784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R.Operando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0" y="22860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R.Operan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9315200">
            <a:off x="5270040" y="254736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R.Auxili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8520" y="3809880"/>
            <a:ext cx="67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R.Es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24840" y="3809880"/>
            <a:ext cx="91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R.Instr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320" y="541008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tch Dir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5520" y="541008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uffer Da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5409000" y="53326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 d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8800" y="617220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 de Datos 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2600" y="617220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 de Direcciones 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28920" y="2924280"/>
            <a:ext cx="857160" cy="674640"/>
          </a:xfrm>
          <a:custGeom>
            <a:avLst/>
            <a:gdLst/>
            <a:ahLst/>
            <a:rect l="l" t="t" r="r" b="b"/>
            <a:pathLst>
              <a:path w="540" h="425">
                <a:moveTo>
                  <a:pt x="540" y="132"/>
                </a:moveTo>
                <a:cubicBezTo>
                  <a:pt x="525" y="109"/>
                  <a:pt x="507" y="103"/>
                  <a:pt x="486" y="84"/>
                </a:cubicBezTo>
                <a:cubicBezTo>
                  <a:pt x="410" y="16"/>
                  <a:pt x="387" y="12"/>
                  <a:pt x="282" y="0"/>
                </a:cubicBezTo>
                <a:cubicBezTo>
                  <a:pt x="232" y="2"/>
                  <a:pt x="182" y="1"/>
                  <a:pt x="132" y="6"/>
                </a:cubicBezTo>
                <a:cubicBezTo>
                  <a:pt x="123" y="7"/>
                  <a:pt x="116" y="14"/>
                  <a:pt x="108" y="18"/>
                </a:cubicBezTo>
                <a:cubicBezTo>
                  <a:pt x="43" y="46"/>
                  <a:pt x="14" y="93"/>
                  <a:pt x="0" y="162"/>
                </a:cubicBezTo>
                <a:cubicBezTo>
                  <a:pt x="7" y="221"/>
                  <a:pt x="3" y="220"/>
                  <a:pt x="36" y="264"/>
                </a:cubicBezTo>
                <a:cubicBezTo>
                  <a:pt x="49" y="281"/>
                  <a:pt x="84" y="306"/>
                  <a:pt x="84" y="306"/>
                </a:cubicBezTo>
                <a:cubicBezTo>
                  <a:pt x="99" y="328"/>
                  <a:pt x="111" y="327"/>
                  <a:pt x="132" y="342"/>
                </a:cubicBezTo>
                <a:cubicBezTo>
                  <a:pt x="188" y="382"/>
                  <a:pt x="252" y="397"/>
                  <a:pt x="318" y="408"/>
                </a:cubicBezTo>
                <a:cubicBezTo>
                  <a:pt x="416" y="404"/>
                  <a:pt x="457" y="425"/>
                  <a:pt x="516" y="366"/>
                </a:cubicBezTo>
                <a:cubicBezTo>
                  <a:pt x="526" y="327"/>
                  <a:pt x="530" y="292"/>
                  <a:pt x="534" y="252"/>
                </a:cubicBezTo>
                <a:cubicBezTo>
                  <a:pt x="532" y="234"/>
                  <a:pt x="534" y="215"/>
                  <a:pt x="528" y="198"/>
                </a:cubicBezTo>
                <a:cubicBezTo>
                  <a:pt x="516" y="161"/>
                  <a:pt x="502" y="166"/>
                  <a:pt x="480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847880" y="2119320"/>
            <a:ext cx="2236680" cy="2004840"/>
            <a:chOff x="1847880" y="2119320"/>
            <a:chExt cx="2236680" cy="2004840"/>
          </a:xfrm>
        </p:grpSpPr>
        <p:sp>
          <p:nvSpPr>
            <p:cNvPr id="590" name=""/>
            <p:cNvSpPr/>
            <p:nvPr/>
          </p:nvSpPr>
          <p:spPr>
            <a:xfrm>
              <a:off x="1847880" y="2119320"/>
              <a:ext cx="884160" cy="39060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71800" y="2133720"/>
              <a:ext cx="1112760" cy="39024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62320" y="3733920"/>
              <a:ext cx="990360" cy="39024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362320" y="4572000"/>
            <a:ext cx="884160" cy="390600"/>
          </a:xfrm>
          <a:custGeom>
            <a:avLst/>
            <a:gdLst/>
            <a:ahLst/>
            <a:rect l="l" t="t" r="r" b="b"/>
            <a:pathLst>
              <a:path w="557" h="246">
                <a:moveTo>
                  <a:pt x="210" y="63"/>
                </a:moveTo>
                <a:cubicBezTo>
                  <a:pt x="138" y="66"/>
                  <a:pt x="82" y="60"/>
                  <a:pt x="18" y="81"/>
                </a:cubicBezTo>
                <a:cubicBezTo>
                  <a:pt x="12" y="90"/>
                  <a:pt x="0" y="105"/>
                  <a:pt x="0" y="117"/>
                </a:cubicBezTo>
                <a:cubicBezTo>
                  <a:pt x="0" y="217"/>
                  <a:pt x="103" y="227"/>
                  <a:pt x="180" y="237"/>
                </a:cubicBezTo>
                <a:cubicBezTo>
                  <a:pt x="198" y="239"/>
                  <a:pt x="216" y="241"/>
                  <a:pt x="234" y="243"/>
                </a:cubicBezTo>
                <a:cubicBezTo>
                  <a:pt x="312" y="241"/>
                  <a:pt x="390" y="246"/>
                  <a:pt x="468" y="237"/>
                </a:cubicBezTo>
                <a:cubicBezTo>
                  <a:pt x="482" y="235"/>
                  <a:pt x="504" y="213"/>
                  <a:pt x="504" y="213"/>
                </a:cubicBezTo>
                <a:cubicBezTo>
                  <a:pt x="508" y="201"/>
                  <a:pt x="512" y="189"/>
                  <a:pt x="516" y="177"/>
                </a:cubicBezTo>
                <a:cubicBezTo>
                  <a:pt x="557" y="53"/>
                  <a:pt x="361" y="25"/>
                  <a:pt x="288" y="15"/>
                </a:cubicBezTo>
                <a:cubicBezTo>
                  <a:pt x="274" y="13"/>
                  <a:pt x="260" y="11"/>
                  <a:pt x="246" y="9"/>
                </a:cubicBezTo>
                <a:cubicBezTo>
                  <a:pt x="185" y="0"/>
                  <a:pt x="122" y="9"/>
                  <a:pt x="60" y="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743200" y="2361960"/>
            <a:ext cx="4572000" cy="3048120"/>
            <a:chOff x="2743200" y="2361960"/>
            <a:chExt cx="4572000" cy="3048120"/>
          </a:xfrm>
        </p:grpSpPr>
        <p:grpSp>
          <p:nvGrpSpPr>
            <p:cNvPr id="595" name=""/>
            <p:cNvGrpSpPr/>
            <p:nvPr/>
          </p:nvGrpSpPr>
          <p:grpSpPr>
            <a:xfrm>
              <a:off x="2743200" y="2361960"/>
              <a:ext cx="3809880" cy="3048120"/>
              <a:chOff x="2743200" y="2361960"/>
              <a:chExt cx="3809880" cy="3048120"/>
            </a:xfrm>
          </p:grpSpPr>
          <p:sp>
            <p:nvSpPr>
              <p:cNvPr id="596" name=""/>
              <p:cNvSpPr/>
              <p:nvPr/>
            </p:nvSpPr>
            <p:spPr>
              <a:xfrm flipH="1" flipV="1">
                <a:off x="3504960" y="3352680"/>
                <a:ext cx="190476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5943240" y="3124080"/>
                <a:ext cx="304920" cy="1067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3352320" y="3962520"/>
                <a:ext cx="205740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>
                <a:off x="5943600" y="4038480"/>
                <a:ext cx="76320" cy="152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6553080" y="4038480"/>
                <a:ext cx="0" cy="152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52320" y="4495680"/>
                <a:ext cx="205740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352320" y="4572000"/>
                <a:ext cx="20574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029200" y="4648320"/>
                <a:ext cx="53352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962160" y="2361960"/>
                <a:ext cx="1447560" cy="190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2743200" y="2361960"/>
                <a:ext cx="2666880" cy="190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5257800" y="3962520"/>
              <a:ext cx="2057400" cy="68580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81480" y="3657600"/>
            <a:ext cx="2133720" cy="390600"/>
            <a:chOff x="5181480" y="3657600"/>
            <a:chExt cx="2133720" cy="390600"/>
          </a:xfrm>
        </p:grpSpPr>
        <p:sp>
          <p:nvSpPr>
            <p:cNvPr id="608" name=""/>
            <p:cNvSpPr/>
            <p:nvPr/>
          </p:nvSpPr>
          <p:spPr>
            <a:xfrm>
              <a:off x="5181480" y="3657600"/>
              <a:ext cx="884520" cy="39060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4480" y="3657600"/>
              <a:ext cx="990720" cy="390600"/>
            </a:xfrm>
            <a:custGeom>
              <a:avLst/>
              <a:gdLst/>
              <a:ahLst/>
              <a:rect l="l" t="t" r="r" b="b"/>
              <a:pathLst>
                <a:path w="557" h="246">
                  <a:moveTo>
                    <a:pt x="210" y="63"/>
                  </a:moveTo>
                  <a:cubicBezTo>
                    <a:pt x="138" y="66"/>
                    <a:pt x="82" y="60"/>
                    <a:pt x="18" y="81"/>
                  </a:cubicBezTo>
                  <a:cubicBezTo>
                    <a:pt x="12" y="90"/>
                    <a:pt x="0" y="105"/>
                    <a:pt x="0" y="117"/>
                  </a:cubicBezTo>
                  <a:cubicBezTo>
                    <a:pt x="0" y="217"/>
                    <a:pt x="103" y="227"/>
                    <a:pt x="180" y="237"/>
                  </a:cubicBezTo>
                  <a:cubicBezTo>
                    <a:pt x="198" y="239"/>
                    <a:pt x="216" y="241"/>
                    <a:pt x="234" y="243"/>
                  </a:cubicBezTo>
                  <a:cubicBezTo>
                    <a:pt x="312" y="241"/>
                    <a:pt x="390" y="246"/>
                    <a:pt x="468" y="237"/>
                  </a:cubicBezTo>
                  <a:cubicBezTo>
                    <a:pt x="482" y="235"/>
                    <a:pt x="504" y="213"/>
                    <a:pt x="504" y="213"/>
                  </a:cubicBezTo>
                  <a:cubicBezTo>
                    <a:pt x="508" y="201"/>
                    <a:pt x="512" y="189"/>
                    <a:pt x="516" y="177"/>
                  </a:cubicBezTo>
                  <a:cubicBezTo>
                    <a:pt x="557" y="53"/>
                    <a:pt x="361" y="25"/>
                    <a:pt x="288" y="15"/>
                  </a:cubicBezTo>
                  <a:cubicBezTo>
                    <a:pt x="274" y="13"/>
                    <a:pt x="260" y="11"/>
                    <a:pt x="246" y="9"/>
                  </a:cubicBezTo>
                  <a:cubicBezTo>
                    <a:pt x="185" y="0"/>
                    <a:pt x="122" y="9"/>
                    <a:pt x="60" y="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rot="19152600">
            <a:off x="5105520" y="2057040"/>
            <a:ext cx="1295280" cy="1143000"/>
          </a:xfrm>
          <a:custGeom>
            <a:avLst/>
            <a:gdLst/>
            <a:ahLst/>
            <a:rect l="l" t="t" r="r" b="b"/>
            <a:pathLst>
              <a:path w="557" h="246">
                <a:moveTo>
                  <a:pt x="210" y="63"/>
                </a:moveTo>
                <a:cubicBezTo>
                  <a:pt x="138" y="66"/>
                  <a:pt x="82" y="60"/>
                  <a:pt x="18" y="81"/>
                </a:cubicBezTo>
                <a:cubicBezTo>
                  <a:pt x="12" y="90"/>
                  <a:pt x="0" y="105"/>
                  <a:pt x="0" y="117"/>
                </a:cubicBezTo>
                <a:cubicBezTo>
                  <a:pt x="0" y="217"/>
                  <a:pt x="103" y="227"/>
                  <a:pt x="180" y="237"/>
                </a:cubicBezTo>
                <a:cubicBezTo>
                  <a:pt x="198" y="239"/>
                  <a:pt x="216" y="241"/>
                  <a:pt x="234" y="243"/>
                </a:cubicBezTo>
                <a:cubicBezTo>
                  <a:pt x="312" y="241"/>
                  <a:pt x="390" y="246"/>
                  <a:pt x="468" y="237"/>
                </a:cubicBezTo>
                <a:cubicBezTo>
                  <a:pt x="482" y="235"/>
                  <a:pt x="504" y="213"/>
                  <a:pt x="504" y="213"/>
                </a:cubicBezTo>
                <a:cubicBezTo>
                  <a:pt x="508" y="201"/>
                  <a:pt x="512" y="189"/>
                  <a:pt x="516" y="177"/>
                </a:cubicBezTo>
                <a:cubicBezTo>
                  <a:pt x="557" y="53"/>
                  <a:pt x="361" y="25"/>
                  <a:pt x="288" y="15"/>
                </a:cubicBezTo>
                <a:cubicBezTo>
                  <a:pt x="274" y="13"/>
                  <a:pt x="260" y="11"/>
                  <a:pt x="246" y="9"/>
                </a:cubicBezTo>
                <a:cubicBezTo>
                  <a:pt x="185" y="0"/>
                  <a:pt x="122" y="9"/>
                  <a:pt x="60" y="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91120" y="2209680"/>
            <a:ext cx="761760" cy="2362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Funcionamiento </a:t>
            </a:r>
            <a:r>
              <a:rPr b="0" lang="es-ES_tradnl" sz="2800" spc="-1" strike="noStrike">
                <a:solidFill>
                  <a:srgbClr val="ff9933"/>
                </a:solidFill>
                <a:latin typeface="Broadway"/>
              </a:rPr>
              <a:t>básico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de la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371600" y="1828800"/>
            <a:ext cx="69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PU realiza </a:t>
            </a:r>
            <a:r>
              <a:rPr b="0" lang="es-ES" sz="2400" spc="-1" strike="noStrike">
                <a:solidFill>
                  <a:srgbClr val="ff9900"/>
                </a:solidFill>
                <a:latin typeface="Times New Roman"/>
              </a:rPr>
              <a:t>casi siemp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 mis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e</a:t>
            </a:r>
            <a:r>
              <a:rPr b="0" lang="es-ES" sz="2400" spc="-1" strike="noStrike">
                <a:solidFill>
                  <a:srgbClr val="ff9900"/>
                </a:solidFill>
                <a:latin typeface="Times New Roman"/>
              </a:rPr>
              <a:t> la instru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indicada en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dicha instrucción necesita de </a:t>
            </a:r>
            <a:r>
              <a:rPr b="0" lang="es-ES" sz="2400" spc="-1" strike="noStrike">
                <a:solidFill>
                  <a:srgbClr val="ff9900"/>
                </a:solidFill>
                <a:latin typeface="Times New Roman"/>
              </a:rPr>
              <a:t>da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os trae e incrementa el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 la </a:t>
            </a:r>
            <a:r>
              <a:rPr b="0" lang="es-ES" sz="2400" spc="-1" strike="noStrike">
                <a:solidFill>
                  <a:srgbClr val="ff9900"/>
                </a:solidFill>
                <a:latin typeface="Times New Roman"/>
              </a:rPr>
              <a:t>instru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uelve a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219320" y="1905120"/>
            <a:ext cx="6705360" cy="2438280"/>
            <a:chOff x="1219320" y="1905120"/>
            <a:chExt cx="6705360" cy="2438280"/>
          </a:xfrm>
        </p:grpSpPr>
        <p:sp>
          <p:nvSpPr>
            <p:cNvPr id="615" name=""/>
            <p:cNvSpPr/>
            <p:nvPr/>
          </p:nvSpPr>
          <p:spPr>
            <a:xfrm>
              <a:off x="1219320" y="1905120"/>
              <a:ext cx="6705360" cy="2438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07160" y="2057400"/>
              <a:ext cx="6435360" cy="459720"/>
            </a:xfrm>
            <a:prstGeom prst="rect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DEMOS AFIRMAR SIN LUGAR A DUDA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117880" y="2971800"/>
            <a:ext cx="4816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UN ORDENADOR NO ES MÁS QUE UN TONTO MUY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4800600"/>
            <a:ext cx="17524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c8d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40280" y="472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A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93120" y="472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AT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81080" y="4648320"/>
            <a:ext cx="5562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8120" y="4419720"/>
            <a:ext cx="1211040" cy="368280"/>
          </a:xfrm>
          <a:prstGeom prst="rect">
            <a:avLst/>
          </a:prstGeom>
          <a:solidFill>
            <a:srgbClr val="ece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33720" y="4800600"/>
            <a:ext cx="1752480" cy="3049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24960" y="4724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6200" y="5486400"/>
            <a:ext cx="17524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5486400"/>
            <a:ext cx="1752840" cy="304920"/>
          </a:xfrm>
          <a:prstGeom prst="rect">
            <a:avLst/>
          </a:prstGeom>
          <a:solidFill>
            <a:srgbClr val="c8d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6400"/>
            <a:ext cx="1752480" cy="30492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3760" y="54864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011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40280" y="54864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100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92760" y="5500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100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7652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056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1080" y="5943600"/>
            <a:ext cx="5562720" cy="642600"/>
          </a:xfrm>
          <a:prstGeom prst="rect">
            <a:avLst/>
          </a:prstGeom>
          <a:solidFill>
            <a:srgbClr val="ece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número de ciclos necesarios para ejecutar una instrucción es variable en función de su complej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Algunas </a:t>
            </a:r>
            <a:r>
              <a:rPr b="0" lang="es-ES_tradnl" sz="2800" spc="-1" strike="noStrike">
                <a:solidFill>
                  <a:srgbClr val="ff9900"/>
                </a:solidFill>
                <a:latin typeface="Broadway"/>
              </a:rPr>
              <a:t>instrucciones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 de la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47920" y="1905120"/>
            <a:ext cx="679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gar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 un d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er una posición de memoria y almacenar su contenido en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ribir en una posición de memoria un dato que está en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uar operaciones lógicas o aritméticas entre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ferir el contenido de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rementar, rotar, desplazar, el contenido de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gar un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nuevo cont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biar el valor de algunos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biestables del estado inter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la C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</a:t>
            </a:r>
            <a:r>
              <a:rPr b="0" lang="es-ES_tradnl" sz="2800" spc="-1" strike="noStrike">
                <a:solidFill>
                  <a:srgbClr val="ff9900"/>
                </a:solidFill>
                <a:latin typeface="Broadway"/>
              </a:rPr>
              <a:t>Ejemplo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: varA=varA+va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190440" y="3390480"/>
            <a:ext cx="1904760" cy="3045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990360" y="2285640"/>
            <a:ext cx="304920" cy="3045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25909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1828800"/>
            <a:ext cx="57150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1676520" y="4572000"/>
            <a:ext cx="6476760" cy="1981080"/>
            <a:chOff x="1676520" y="4572000"/>
            <a:chExt cx="6476760" cy="1981080"/>
          </a:xfrm>
        </p:grpSpPr>
        <p:sp>
          <p:nvSpPr>
            <p:cNvPr id="648" name=""/>
            <p:cNvSpPr/>
            <p:nvPr/>
          </p:nvSpPr>
          <p:spPr>
            <a:xfrm>
              <a:off x="1676520" y="4572000"/>
              <a:ext cx="6476760" cy="1981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88760" y="4572000"/>
              <a:ext cx="595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ódigo 67: Cargar en Registro A el dato en la dirección O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6520" y="487656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52480" y="4952880"/>
              <a:ext cx="63241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pone en el bus de direcciones el valor de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la instrucción  del bus de datos y ordena al registro de instrucción que lo almacene e incrementa 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detecta la necesidad de un dat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Recoge el dato y lo coloca en el latch de direccion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crementa el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el dato de memoria y ordena al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gistro 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que lo almac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752480" y="4572000"/>
            <a:ext cx="6477120" cy="1981080"/>
            <a:chOff x="1752480" y="4572000"/>
            <a:chExt cx="6477120" cy="1981080"/>
          </a:xfrm>
        </p:grpSpPr>
        <p:sp>
          <p:nvSpPr>
            <p:cNvPr id="653" name=""/>
            <p:cNvSpPr/>
            <p:nvPr/>
          </p:nvSpPr>
          <p:spPr>
            <a:xfrm>
              <a:off x="1752480" y="4572000"/>
              <a:ext cx="6477120" cy="1981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65080" y="4572000"/>
              <a:ext cx="595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ódigo 68: Cargar en Registro B el dato en la dirección O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4876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8800" y="4952880"/>
              <a:ext cx="63244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pone en el bus de direcciones el valor de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la instrucción  del bus de datos y ordena al registro de instrucción que lo almacene e incrementa 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detecta la necesidad de un dat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Recoge el dato y lo coloca en el latch de direccion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crementa el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el dato de memoria y ordena al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gistro B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que lo almac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819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1028520" y="2018880"/>
            <a:ext cx="228600" cy="3045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1028520" y="1790280"/>
            <a:ext cx="228600" cy="30456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95280" y="22860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20574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0574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182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600200" y="2057400"/>
            <a:ext cx="1219320" cy="2318400"/>
            <a:chOff x="1600200" y="2057400"/>
            <a:chExt cx="1219320" cy="2318400"/>
          </a:xfrm>
        </p:grpSpPr>
        <p:grpSp>
          <p:nvGrpSpPr>
            <p:cNvPr id="665" name=""/>
            <p:cNvGrpSpPr/>
            <p:nvPr/>
          </p:nvGrpSpPr>
          <p:grpSpPr>
            <a:xfrm>
              <a:off x="1981080" y="2743200"/>
              <a:ext cx="685800" cy="1600200"/>
              <a:chOff x="1981080" y="2743200"/>
              <a:chExt cx="685800" cy="1600200"/>
            </a:xfrm>
          </p:grpSpPr>
          <p:sp>
            <p:nvSpPr>
              <p:cNvPr id="666" name=""/>
              <p:cNvSpPr/>
              <p:nvPr/>
            </p:nvSpPr>
            <p:spPr>
              <a:xfrm>
                <a:off x="1981080" y="2743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81080" y="2971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81080" y="32004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81080" y="34290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981080" y="36576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981080" y="3886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981080" y="4114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2058840" y="2666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58840" y="2895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58840" y="31240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58840" y="33526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58840" y="3581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58840" y="3809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58840" y="4038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600200" y="2666880"/>
              <a:ext cx="456840" cy="1678680"/>
              <a:chOff x="1600200" y="2666880"/>
              <a:chExt cx="456840" cy="16786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2666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ff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06680" y="2895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00200" y="31240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0200" y="33526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0200" y="35812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0200" y="3809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0200" y="4038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905120" y="22860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860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86000" y="2057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7086600" y="1905120"/>
            <a:ext cx="1066680" cy="565920"/>
            <a:chOff x="7086600" y="1905120"/>
            <a:chExt cx="1066680" cy="565920"/>
          </a:xfrm>
        </p:grpSpPr>
        <p:sp>
          <p:nvSpPr>
            <p:cNvPr id="692" name=""/>
            <p:cNvSpPr/>
            <p:nvPr/>
          </p:nvSpPr>
          <p:spPr>
            <a:xfrm>
              <a:off x="7467480" y="1981440"/>
              <a:ext cx="68580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67480" y="2210040"/>
              <a:ext cx="68580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45240" y="19051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45240" y="2133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93080" y="19051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86600" y="2133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086600" y="1905120"/>
            <a:ext cx="1371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819520" y="1828800"/>
            <a:ext cx="1143000" cy="2547000"/>
            <a:chOff x="2819520" y="1828800"/>
            <a:chExt cx="1143000" cy="2547000"/>
          </a:xfrm>
        </p:grpSpPr>
        <p:grpSp>
          <p:nvGrpSpPr>
            <p:cNvPr id="700" name=""/>
            <p:cNvGrpSpPr/>
            <p:nvPr/>
          </p:nvGrpSpPr>
          <p:grpSpPr>
            <a:xfrm>
              <a:off x="3200400" y="2743200"/>
              <a:ext cx="685800" cy="1600200"/>
              <a:chOff x="3200400" y="2743200"/>
              <a:chExt cx="685800" cy="1600200"/>
            </a:xfrm>
          </p:grpSpPr>
          <p:sp>
            <p:nvSpPr>
              <p:cNvPr id="701" name=""/>
              <p:cNvSpPr/>
              <p:nvPr/>
            </p:nvSpPr>
            <p:spPr>
              <a:xfrm>
                <a:off x="3200400" y="2743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0400" y="2971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200400" y="32004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00400" y="34290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200400" y="36576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200400" y="3886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200400" y="4114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819520" y="2666880"/>
              <a:ext cx="456840" cy="1678680"/>
              <a:chOff x="2819520" y="2666880"/>
              <a:chExt cx="456840" cy="1678680"/>
            </a:xfrm>
          </p:grpSpPr>
          <p:sp>
            <p:nvSpPr>
              <p:cNvPr id="709" name=""/>
              <p:cNvSpPr/>
              <p:nvPr/>
            </p:nvSpPr>
            <p:spPr>
              <a:xfrm>
                <a:off x="2819520" y="2666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826000" y="2895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19520" y="31240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ff0000"/>
                    </a:solidFill>
                    <a:latin typeface="Times New Roman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819520" y="33526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19520" y="35812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819520" y="3809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19520" y="4038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3325680" y="2711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25680" y="3168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25680" y="362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25680" y="3854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89320" y="33973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78160" y="2895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89320" y="4038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48120" y="22860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00400" y="2057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004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03848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86600" y="2133720"/>
            <a:ext cx="1371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828800" y="4572000"/>
            <a:ext cx="6477120" cy="1828800"/>
            <a:chOff x="1828800" y="4572000"/>
            <a:chExt cx="6477120" cy="1828800"/>
          </a:xfrm>
        </p:grpSpPr>
        <p:sp>
          <p:nvSpPr>
            <p:cNvPr id="730" name=""/>
            <p:cNvSpPr/>
            <p:nvPr/>
          </p:nvSpPr>
          <p:spPr>
            <a:xfrm>
              <a:off x="1828800" y="4572000"/>
              <a:ext cx="6477120" cy="18288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33480" y="4572000"/>
              <a:ext cx="23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ódigo 40: Suma A+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28800" y="48531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05120" y="4925160"/>
              <a:ext cx="6324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pone en el bus de direcciones el valor de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la instrucción  del bus de datos y ordena al registro de instrucción que lo almacene e incrementa 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ordena a la ALU realizar la operació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l resultado se almacena en el acumulad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038480" y="1828800"/>
            <a:ext cx="1067040" cy="2547000"/>
            <a:chOff x="4038480" y="1828800"/>
            <a:chExt cx="1067040" cy="2547000"/>
          </a:xfrm>
        </p:grpSpPr>
        <p:grpSp>
          <p:nvGrpSpPr>
            <p:cNvPr id="735" name=""/>
            <p:cNvGrpSpPr/>
            <p:nvPr/>
          </p:nvGrpSpPr>
          <p:grpSpPr>
            <a:xfrm>
              <a:off x="4419720" y="2743200"/>
              <a:ext cx="685800" cy="1600200"/>
              <a:chOff x="4419720" y="2743200"/>
              <a:chExt cx="685800" cy="1600200"/>
            </a:xfrm>
          </p:grpSpPr>
          <p:sp>
            <p:nvSpPr>
              <p:cNvPr id="736" name=""/>
              <p:cNvSpPr/>
              <p:nvPr/>
            </p:nvSpPr>
            <p:spPr>
              <a:xfrm>
                <a:off x="4419720" y="2743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19720" y="2971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19720" y="32004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19720" y="34290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19720" y="36576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419720" y="3886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419720" y="4114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545000" y="2711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45000" y="3168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545000" y="362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45000" y="3854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08280" y="33973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97120" y="2895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08280" y="4038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43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19720" y="20574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9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4038480" y="2666880"/>
              <a:ext cx="456840" cy="1678680"/>
              <a:chOff x="4038480" y="2666880"/>
              <a:chExt cx="456840" cy="1678680"/>
            </a:xfrm>
          </p:grpSpPr>
          <p:sp>
            <p:nvSpPr>
              <p:cNvPr id="754" name=""/>
              <p:cNvSpPr/>
              <p:nvPr/>
            </p:nvSpPr>
            <p:spPr>
              <a:xfrm>
                <a:off x="4038480" y="2666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44960" y="2895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038480" y="31240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038480" y="33526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038480" y="35812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ff0000"/>
                    </a:solidFill>
                    <a:latin typeface="Times New Roman"/>
                  </a:rPr>
                  <a:t>1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38480" y="3809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38480" y="4038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1" name=""/>
          <p:cNvSpPr/>
          <p:nvPr/>
        </p:nvSpPr>
        <p:spPr>
          <a:xfrm>
            <a:off x="525780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905120" y="4494240"/>
            <a:ext cx="6476760" cy="2216160"/>
            <a:chOff x="1905120" y="4494240"/>
            <a:chExt cx="6476760" cy="2216160"/>
          </a:xfrm>
        </p:grpSpPr>
        <p:sp>
          <p:nvSpPr>
            <p:cNvPr id="763" name=""/>
            <p:cNvSpPr/>
            <p:nvPr/>
          </p:nvSpPr>
          <p:spPr>
            <a:xfrm>
              <a:off x="1905120" y="4494240"/>
              <a:ext cx="6476760" cy="21693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19160" y="4494240"/>
              <a:ext cx="626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ódigo 53: Guardar el dato del acumulador en la dirección O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05120" y="4827960"/>
              <a:ext cx="64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81080" y="4911480"/>
              <a:ext cx="63241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pone en el bus de direcciones el valor de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Lee la instrucción  del bus de datos y ordena al registro de instrucción que lo almacene e incrementa 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trolador detecta la necesidad de un dat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Recoge el dato y lo coloca en el latch de direcciones, indica Escritur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crementa el P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Ordena al acumulador poner el dato en el buffer de dat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334120" y="1828800"/>
            <a:ext cx="1066680" cy="2547000"/>
            <a:chOff x="5334120" y="1828800"/>
            <a:chExt cx="1066680" cy="2547000"/>
          </a:xfrm>
        </p:grpSpPr>
        <p:grpSp>
          <p:nvGrpSpPr>
            <p:cNvPr id="768" name=""/>
            <p:cNvGrpSpPr/>
            <p:nvPr/>
          </p:nvGrpSpPr>
          <p:grpSpPr>
            <a:xfrm>
              <a:off x="5715000" y="2743200"/>
              <a:ext cx="685800" cy="1600200"/>
              <a:chOff x="5715000" y="2743200"/>
              <a:chExt cx="685800" cy="1600200"/>
            </a:xfrm>
          </p:grpSpPr>
          <p:sp>
            <p:nvSpPr>
              <p:cNvPr id="769" name=""/>
              <p:cNvSpPr/>
              <p:nvPr/>
            </p:nvSpPr>
            <p:spPr>
              <a:xfrm>
                <a:off x="5715000" y="2743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715000" y="2971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715000" y="32004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715000" y="34290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15000" y="36576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15000" y="38862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715000" y="4114800"/>
                <a:ext cx="685800" cy="22860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5840280" y="2711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0280" y="3168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40280" y="362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40280" y="3854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03920" y="33973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92760" y="2895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03920" y="4038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5334120" y="2666880"/>
              <a:ext cx="456840" cy="1678680"/>
              <a:chOff x="5334120" y="2666880"/>
              <a:chExt cx="456840" cy="1678680"/>
            </a:xfrm>
          </p:grpSpPr>
          <p:sp>
            <p:nvSpPr>
              <p:cNvPr id="784" name=""/>
              <p:cNvSpPr/>
              <p:nvPr/>
            </p:nvSpPr>
            <p:spPr>
              <a:xfrm>
                <a:off x="5334120" y="2666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340600" y="2895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4120" y="31240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34120" y="33526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334120" y="35812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34120" y="38098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ff0000"/>
                    </a:solidFill>
                    <a:latin typeface="Times New Roman"/>
                  </a:rPr>
                  <a:t>1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334120" y="4038480"/>
                <a:ext cx="45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1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86728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15000" y="2057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150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467480" y="1905120"/>
            <a:ext cx="685800" cy="565920"/>
            <a:chOff x="7467480" y="1905120"/>
            <a:chExt cx="685800" cy="565920"/>
          </a:xfrm>
        </p:grpSpPr>
        <p:sp>
          <p:nvSpPr>
            <p:cNvPr id="796" name=""/>
            <p:cNvSpPr/>
            <p:nvPr/>
          </p:nvSpPr>
          <p:spPr>
            <a:xfrm>
              <a:off x="7467480" y="1981080"/>
              <a:ext cx="68580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67480" y="2209680"/>
              <a:ext cx="68580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44880" y="19051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"/>
                </a:rPr>
                <a:t>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44880" y="2133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Concepto de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subru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1752480"/>
            <a:ext cx="679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ona </a:t>
            </a:r>
            <a:r>
              <a:rPr b="0" lang="es-ES_tradnl" sz="2000" spc="-1" strike="noStrike">
                <a:solidFill>
                  <a:srgbClr val="ff6600"/>
                </a:solidFill>
                <a:latin typeface="Arial"/>
              </a:rPr>
              <a:t>independi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grama que puede ser ejecutada repetidam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058840" y="2743200"/>
            <a:ext cx="4500720" cy="3619440"/>
            <a:chOff x="2058840" y="2743200"/>
            <a:chExt cx="4500720" cy="3619440"/>
          </a:xfrm>
        </p:grpSpPr>
        <p:sp>
          <p:nvSpPr>
            <p:cNvPr id="803" name=""/>
            <p:cNvSpPr/>
            <p:nvPr/>
          </p:nvSpPr>
          <p:spPr>
            <a:xfrm>
              <a:off x="4948200" y="2743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57680" y="2743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73400" y="4648320"/>
              <a:ext cx="588960" cy="114120"/>
            </a:xfrm>
            <a:custGeom>
              <a:avLst/>
              <a:gdLst/>
              <a:ahLst/>
              <a:rect l="l" t="t" r="r" b="b"/>
              <a:pathLst>
                <a:path w="371" h="72">
                  <a:moveTo>
                    <a:pt x="0" y="0"/>
                  </a:moveTo>
                  <a:cubicBezTo>
                    <a:pt x="24" y="16"/>
                    <a:pt x="27" y="13"/>
                    <a:pt x="40" y="40"/>
                  </a:cubicBezTo>
                  <a:cubicBezTo>
                    <a:pt x="44" y="48"/>
                    <a:pt x="42" y="58"/>
                    <a:pt x="48" y="64"/>
                  </a:cubicBezTo>
                  <a:cubicBezTo>
                    <a:pt x="54" y="70"/>
                    <a:pt x="64" y="69"/>
                    <a:pt x="72" y="72"/>
                  </a:cubicBezTo>
                  <a:cubicBezTo>
                    <a:pt x="101" y="69"/>
                    <a:pt x="132" y="72"/>
                    <a:pt x="160" y="64"/>
                  </a:cubicBezTo>
                  <a:cubicBezTo>
                    <a:pt x="205" y="51"/>
                    <a:pt x="194" y="28"/>
                    <a:pt x="232" y="24"/>
                  </a:cubicBezTo>
                  <a:cubicBezTo>
                    <a:pt x="371" y="10"/>
                    <a:pt x="368" y="62"/>
                    <a:pt x="368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48200" y="2746440"/>
              <a:ext cx="596880" cy="123840"/>
            </a:xfrm>
            <a:custGeom>
              <a:avLst/>
              <a:gdLst/>
              <a:ahLst/>
              <a:rect l="l" t="t" r="r" b="b"/>
              <a:pathLst>
                <a:path w="376" h="78">
                  <a:moveTo>
                    <a:pt x="0" y="6"/>
                  </a:moveTo>
                  <a:cubicBezTo>
                    <a:pt x="24" y="9"/>
                    <a:pt x="49" y="6"/>
                    <a:pt x="72" y="14"/>
                  </a:cubicBezTo>
                  <a:cubicBezTo>
                    <a:pt x="83" y="18"/>
                    <a:pt x="87" y="32"/>
                    <a:pt x="96" y="38"/>
                  </a:cubicBezTo>
                  <a:cubicBezTo>
                    <a:pt x="131" y="62"/>
                    <a:pt x="174" y="71"/>
                    <a:pt x="216" y="78"/>
                  </a:cubicBezTo>
                  <a:cubicBezTo>
                    <a:pt x="237" y="75"/>
                    <a:pt x="259" y="76"/>
                    <a:pt x="280" y="70"/>
                  </a:cubicBezTo>
                  <a:cubicBezTo>
                    <a:pt x="299" y="65"/>
                    <a:pt x="312" y="46"/>
                    <a:pt x="320" y="30"/>
                  </a:cubicBezTo>
                  <a:cubicBezTo>
                    <a:pt x="324" y="22"/>
                    <a:pt x="320" y="9"/>
                    <a:pt x="328" y="6"/>
                  </a:cubicBezTo>
                  <a:cubicBezTo>
                    <a:pt x="343" y="0"/>
                    <a:pt x="360" y="6"/>
                    <a:pt x="37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4948200" y="4876920"/>
              <a:ext cx="613800" cy="1485720"/>
              <a:chOff x="4948200" y="4876920"/>
              <a:chExt cx="613800" cy="1485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948200" y="487692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57320" y="487692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973400" y="6278760"/>
                <a:ext cx="588600" cy="83880"/>
              </a:xfrm>
              <a:custGeom>
                <a:avLst/>
                <a:gdLst/>
                <a:ahLst/>
                <a:rect l="l" t="t" r="r" b="b"/>
                <a:pathLst>
                  <a:path w="371" h="72">
                    <a:moveTo>
                      <a:pt x="0" y="0"/>
                    </a:moveTo>
                    <a:cubicBezTo>
                      <a:pt x="24" y="16"/>
                      <a:pt x="27" y="13"/>
                      <a:pt x="40" y="40"/>
                    </a:cubicBezTo>
                    <a:cubicBezTo>
                      <a:pt x="44" y="48"/>
                      <a:pt x="42" y="58"/>
                      <a:pt x="48" y="64"/>
                    </a:cubicBezTo>
                    <a:cubicBezTo>
                      <a:pt x="54" y="70"/>
                      <a:pt x="64" y="69"/>
                      <a:pt x="72" y="72"/>
                    </a:cubicBezTo>
                    <a:cubicBezTo>
                      <a:pt x="101" y="69"/>
                      <a:pt x="132" y="72"/>
                      <a:pt x="160" y="64"/>
                    </a:cubicBezTo>
                    <a:cubicBezTo>
                      <a:pt x="205" y="51"/>
                      <a:pt x="194" y="28"/>
                      <a:pt x="232" y="24"/>
                    </a:cubicBezTo>
                    <a:cubicBezTo>
                      <a:pt x="371" y="10"/>
                      <a:pt x="368" y="62"/>
                      <a:pt x="368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948200" y="4879080"/>
                <a:ext cx="596520" cy="91080"/>
              </a:xfrm>
              <a:custGeom>
                <a:avLst/>
                <a:gdLst/>
                <a:ahLst/>
                <a:rect l="l" t="t" r="r" b="b"/>
                <a:pathLst>
                  <a:path w="376" h="78">
                    <a:moveTo>
                      <a:pt x="0" y="6"/>
                    </a:moveTo>
                    <a:cubicBezTo>
                      <a:pt x="24" y="9"/>
                      <a:pt x="49" y="6"/>
                      <a:pt x="72" y="14"/>
                    </a:cubicBezTo>
                    <a:cubicBezTo>
                      <a:pt x="83" y="18"/>
                      <a:pt x="87" y="32"/>
                      <a:pt x="96" y="38"/>
                    </a:cubicBezTo>
                    <a:cubicBezTo>
                      <a:pt x="131" y="62"/>
                      <a:pt x="174" y="71"/>
                      <a:pt x="216" y="78"/>
                    </a:cubicBezTo>
                    <a:cubicBezTo>
                      <a:pt x="237" y="75"/>
                      <a:pt x="259" y="76"/>
                      <a:pt x="280" y="70"/>
                    </a:cubicBezTo>
                    <a:cubicBezTo>
                      <a:pt x="299" y="65"/>
                      <a:pt x="312" y="46"/>
                      <a:pt x="320" y="30"/>
                    </a:cubicBezTo>
                    <a:cubicBezTo>
                      <a:pt x="324" y="22"/>
                      <a:pt x="320" y="9"/>
                      <a:pt x="328" y="6"/>
                    </a:cubicBezTo>
                    <a:cubicBezTo>
                      <a:pt x="343" y="0"/>
                      <a:pt x="360" y="6"/>
                      <a:pt x="376" y="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414680" y="2743200"/>
              <a:ext cx="152280" cy="35053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43"/>
                  </a:lnTo>
                  <a:cubicBezTo>
                    <a:pt x="10800" y="9743"/>
                    <a:pt x="5400" y="10643"/>
                    <a:pt x="0" y="10643"/>
                  </a:cubicBezTo>
                  <a:cubicBezTo>
                    <a:pt x="5400" y="10643"/>
                    <a:pt x="10800" y="11543"/>
                    <a:pt x="10800" y="1244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69760" y="4114800"/>
              <a:ext cx="14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 Progr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52880" y="29718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52880" y="31240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52880" y="32767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52880" y="3429000"/>
              <a:ext cx="6094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52880" y="35812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52880" y="37339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52880" y="38862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40384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41911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2880" y="51055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52880" y="52578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52880" y="54100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52880" y="55627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52880" y="57150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52880" y="58672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52880" y="6019920"/>
              <a:ext cx="6094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38680" y="281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26080" y="3505320"/>
              <a:ext cx="233280" cy="1689120"/>
            </a:xfrm>
            <a:custGeom>
              <a:avLst/>
              <a:gdLst/>
              <a:ahLst/>
              <a:rect l="l" t="t" r="r" b="b"/>
              <a:pathLst>
                <a:path w="147" h="1064">
                  <a:moveTo>
                    <a:pt x="0" y="0"/>
                  </a:moveTo>
                  <a:cubicBezTo>
                    <a:pt x="68" y="180"/>
                    <a:pt x="141" y="351"/>
                    <a:pt x="144" y="528"/>
                  </a:cubicBezTo>
                  <a:cubicBezTo>
                    <a:pt x="147" y="705"/>
                    <a:pt x="43" y="952"/>
                    <a:pt x="16" y="10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3868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00520" y="3670200"/>
              <a:ext cx="959040" cy="2425680"/>
            </a:xfrm>
            <a:custGeom>
              <a:avLst/>
              <a:gdLst/>
              <a:ahLst/>
              <a:rect l="l" t="t" r="r" b="b"/>
              <a:pathLst>
                <a:path w="604" h="1528">
                  <a:moveTo>
                    <a:pt x="24" y="1528"/>
                  </a:moveTo>
                  <a:cubicBezTo>
                    <a:pt x="312" y="1176"/>
                    <a:pt x="604" y="823"/>
                    <a:pt x="600" y="568"/>
                  </a:cubicBezTo>
                  <a:cubicBezTo>
                    <a:pt x="596" y="313"/>
                    <a:pt x="125" y="11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638680" y="3657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8840" y="3124080"/>
              <a:ext cx="199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Instrucción “llam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a subrutina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429000"/>
              <a:ext cx="9903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114800" y="3200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63920" y="5410080"/>
              <a:ext cx="156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Instrucción “F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de subrutina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076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90760" y="57150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629400" y="4343400"/>
            <a:ext cx="20574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diante la pila, el micro sabe “donde”  y “cómo” debe volver (con cierta ayu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Concepto de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interru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47920" y="17524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quizá el mecanismo del microcontrolador más importante para la conexión co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 subrutinas que </a:t>
            </a:r>
            <a:r>
              <a:rPr b="0" lang="es-ES_tradnl" sz="1800" spc="-1" strike="noStrike">
                <a:solidFill>
                  <a:srgbClr val="ff6600"/>
                </a:solidFill>
                <a:latin typeface="Arial"/>
              </a:rPr>
              <a:t>se inici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no por una instrucción, sino por una </a:t>
            </a:r>
            <a:r>
              <a:rPr b="0" lang="es-ES_tradnl" sz="1800" spc="-1" strike="noStrike">
                <a:solidFill>
                  <a:srgbClr val="ff6600"/>
                </a:solidFill>
                <a:latin typeface="Arial"/>
              </a:rPr>
              <a:t>señal hardwa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680480" y="2819520"/>
            <a:ext cx="6460200" cy="3695400"/>
            <a:chOff x="1680480" y="2819520"/>
            <a:chExt cx="6460200" cy="3695400"/>
          </a:xfrm>
        </p:grpSpPr>
        <p:sp>
          <p:nvSpPr>
            <p:cNvPr id="845" name=""/>
            <p:cNvSpPr/>
            <p:nvPr/>
          </p:nvSpPr>
          <p:spPr>
            <a:xfrm>
              <a:off x="4478400" y="2895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7880" y="2895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503600" y="4800600"/>
              <a:ext cx="588960" cy="114480"/>
            </a:xfrm>
            <a:custGeom>
              <a:avLst/>
              <a:gdLst/>
              <a:ahLst/>
              <a:rect l="l" t="t" r="r" b="b"/>
              <a:pathLst>
                <a:path w="371" h="72">
                  <a:moveTo>
                    <a:pt x="0" y="0"/>
                  </a:moveTo>
                  <a:cubicBezTo>
                    <a:pt x="24" y="16"/>
                    <a:pt x="27" y="13"/>
                    <a:pt x="40" y="40"/>
                  </a:cubicBezTo>
                  <a:cubicBezTo>
                    <a:pt x="44" y="48"/>
                    <a:pt x="42" y="58"/>
                    <a:pt x="48" y="64"/>
                  </a:cubicBezTo>
                  <a:cubicBezTo>
                    <a:pt x="54" y="70"/>
                    <a:pt x="64" y="69"/>
                    <a:pt x="72" y="72"/>
                  </a:cubicBezTo>
                  <a:cubicBezTo>
                    <a:pt x="101" y="69"/>
                    <a:pt x="132" y="72"/>
                    <a:pt x="160" y="64"/>
                  </a:cubicBezTo>
                  <a:cubicBezTo>
                    <a:pt x="205" y="51"/>
                    <a:pt x="194" y="28"/>
                    <a:pt x="232" y="24"/>
                  </a:cubicBezTo>
                  <a:cubicBezTo>
                    <a:pt x="371" y="10"/>
                    <a:pt x="368" y="62"/>
                    <a:pt x="368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78400" y="2898720"/>
              <a:ext cx="596880" cy="123840"/>
            </a:xfrm>
            <a:custGeom>
              <a:avLst/>
              <a:gdLst/>
              <a:ahLst/>
              <a:rect l="l" t="t" r="r" b="b"/>
              <a:pathLst>
                <a:path w="376" h="78">
                  <a:moveTo>
                    <a:pt x="0" y="6"/>
                  </a:moveTo>
                  <a:cubicBezTo>
                    <a:pt x="24" y="9"/>
                    <a:pt x="49" y="6"/>
                    <a:pt x="72" y="14"/>
                  </a:cubicBezTo>
                  <a:cubicBezTo>
                    <a:pt x="83" y="18"/>
                    <a:pt x="87" y="32"/>
                    <a:pt x="96" y="38"/>
                  </a:cubicBezTo>
                  <a:cubicBezTo>
                    <a:pt x="131" y="62"/>
                    <a:pt x="174" y="71"/>
                    <a:pt x="216" y="78"/>
                  </a:cubicBezTo>
                  <a:cubicBezTo>
                    <a:pt x="237" y="75"/>
                    <a:pt x="259" y="76"/>
                    <a:pt x="280" y="70"/>
                  </a:cubicBezTo>
                  <a:cubicBezTo>
                    <a:pt x="299" y="65"/>
                    <a:pt x="312" y="46"/>
                    <a:pt x="320" y="30"/>
                  </a:cubicBezTo>
                  <a:cubicBezTo>
                    <a:pt x="324" y="22"/>
                    <a:pt x="320" y="9"/>
                    <a:pt x="328" y="6"/>
                  </a:cubicBezTo>
                  <a:cubicBezTo>
                    <a:pt x="343" y="0"/>
                    <a:pt x="360" y="6"/>
                    <a:pt x="37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478400" y="5029200"/>
              <a:ext cx="613800" cy="1485720"/>
              <a:chOff x="4478400" y="5029200"/>
              <a:chExt cx="613800" cy="1485720"/>
            </a:xfrm>
          </p:grpSpPr>
          <p:sp>
            <p:nvSpPr>
              <p:cNvPr id="850" name=""/>
              <p:cNvSpPr/>
              <p:nvPr/>
            </p:nvSpPr>
            <p:spPr>
              <a:xfrm>
                <a:off x="4478400" y="502920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87520" y="5029200"/>
                <a:ext cx="0" cy="140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03600" y="6431040"/>
                <a:ext cx="588600" cy="83880"/>
              </a:xfrm>
              <a:custGeom>
                <a:avLst/>
                <a:gdLst/>
                <a:ahLst/>
                <a:rect l="l" t="t" r="r" b="b"/>
                <a:pathLst>
                  <a:path w="371" h="72">
                    <a:moveTo>
                      <a:pt x="0" y="0"/>
                    </a:moveTo>
                    <a:cubicBezTo>
                      <a:pt x="24" y="16"/>
                      <a:pt x="27" y="13"/>
                      <a:pt x="40" y="40"/>
                    </a:cubicBezTo>
                    <a:cubicBezTo>
                      <a:pt x="44" y="48"/>
                      <a:pt x="42" y="58"/>
                      <a:pt x="48" y="64"/>
                    </a:cubicBezTo>
                    <a:cubicBezTo>
                      <a:pt x="54" y="70"/>
                      <a:pt x="64" y="69"/>
                      <a:pt x="72" y="72"/>
                    </a:cubicBezTo>
                    <a:cubicBezTo>
                      <a:pt x="101" y="69"/>
                      <a:pt x="132" y="72"/>
                      <a:pt x="160" y="64"/>
                    </a:cubicBezTo>
                    <a:cubicBezTo>
                      <a:pt x="205" y="51"/>
                      <a:pt x="194" y="28"/>
                      <a:pt x="232" y="24"/>
                    </a:cubicBezTo>
                    <a:cubicBezTo>
                      <a:pt x="371" y="10"/>
                      <a:pt x="368" y="62"/>
                      <a:pt x="368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78400" y="5031360"/>
                <a:ext cx="596520" cy="91080"/>
              </a:xfrm>
              <a:custGeom>
                <a:avLst/>
                <a:gdLst/>
                <a:ahLst/>
                <a:rect l="l" t="t" r="r" b="b"/>
                <a:pathLst>
                  <a:path w="376" h="78">
                    <a:moveTo>
                      <a:pt x="0" y="6"/>
                    </a:moveTo>
                    <a:cubicBezTo>
                      <a:pt x="24" y="9"/>
                      <a:pt x="49" y="6"/>
                      <a:pt x="72" y="14"/>
                    </a:cubicBezTo>
                    <a:cubicBezTo>
                      <a:pt x="83" y="18"/>
                      <a:pt x="87" y="32"/>
                      <a:pt x="96" y="38"/>
                    </a:cubicBezTo>
                    <a:cubicBezTo>
                      <a:pt x="131" y="62"/>
                      <a:pt x="174" y="71"/>
                      <a:pt x="216" y="78"/>
                    </a:cubicBezTo>
                    <a:cubicBezTo>
                      <a:pt x="237" y="75"/>
                      <a:pt x="259" y="76"/>
                      <a:pt x="280" y="70"/>
                    </a:cubicBezTo>
                    <a:cubicBezTo>
                      <a:pt x="299" y="65"/>
                      <a:pt x="312" y="46"/>
                      <a:pt x="320" y="30"/>
                    </a:cubicBezTo>
                    <a:cubicBezTo>
                      <a:pt x="324" y="22"/>
                      <a:pt x="320" y="9"/>
                      <a:pt x="328" y="6"/>
                    </a:cubicBezTo>
                    <a:cubicBezTo>
                      <a:pt x="343" y="0"/>
                      <a:pt x="360" y="6"/>
                      <a:pt x="376" y="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3944880" y="2895480"/>
              <a:ext cx="233280" cy="1905120"/>
            </a:xfrm>
            <a:custGeom>
              <a:avLst/>
              <a:gdLst>
                <a:gd name="textAreaLeft" fmla="*/ 149040 w 233280"/>
                <a:gd name="textAreaRight" fmla="*/ 233640 w 2332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43"/>
                  </a:lnTo>
                  <a:cubicBezTo>
                    <a:pt x="10800" y="9743"/>
                    <a:pt x="5400" y="10643"/>
                    <a:pt x="0" y="10643"/>
                  </a:cubicBezTo>
                  <a:cubicBezTo>
                    <a:pt x="5400" y="10643"/>
                    <a:pt x="10800" y="11543"/>
                    <a:pt x="10800" y="1244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93440" y="358128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3080" y="31240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83080" y="32767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83080" y="34290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3080" y="35812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83080" y="37339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83080" y="38862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3080" y="40384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83080" y="41911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3080" y="43434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83080" y="52578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83080" y="54100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83080" y="55627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83080" y="571500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83080" y="5867280"/>
              <a:ext cx="609480" cy="1526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83080" y="6019920"/>
              <a:ext cx="609480" cy="1522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83080" y="6172200"/>
              <a:ext cx="6094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688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68880" y="3733920"/>
              <a:ext cx="220680" cy="1612800"/>
            </a:xfrm>
            <a:custGeom>
              <a:avLst/>
              <a:gdLst/>
              <a:ahLst/>
              <a:rect l="l" t="t" r="r" b="b"/>
              <a:pathLst>
                <a:path w="147" h="1064">
                  <a:moveTo>
                    <a:pt x="0" y="0"/>
                  </a:moveTo>
                  <a:cubicBezTo>
                    <a:pt x="68" y="180"/>
                    <a:pt x="141" y="351"/>
                    <a:pt x="144" y="528"/>
                  </a:cubicBezTo>
                  <a:cubicBezTo>
                    <a:pt x="147" y="705"/>
                    <a:pt x="43" y="952"/>
                    <a:pt x="16" y="10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68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30720" y="3822840"/>
              <a:ext cx="959040" cy="2425680"/>
            </a:xfrm>
            <a:custGeom>
              <a:avLst/>
              <a:gdLst/>
              <a:ahLst/>
              <a:rect l="l" t="t" r="r" b="b"/>
              <a:pathLst>
                <a:path w="604" h="1528">
                  <a:moveTo>
                    <a:pt x="24" y="1528"/>
                  </a:moveTo>
                  <a:cubicBezTo>
                    <a:pt x="312" y="1176"/>
                    <a:pt x="604" y="823"/>
                    <a:pt x="600" y="568"/>
                  </a:cubicBezTo>
                  <a:cubicBezTo>
                    <a:pt x="596" y="313"/>
                    <a:pt x="125" y="11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68880" y="3809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23680" y="2819520"/>
              <a:ext cx="25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Instante de la interrup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38080" y="579132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Instrucción “F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0000"/>
                  </a:solidFill>
                  <a:latin typeface="Arial"/>
                </a:rPr>
                <a:t>de interrup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45200" y="3200400"/>
              <a:ext cx="761760" cy="609480"/>
            </a:xfrm>
            <a:custGeom>
              <a:avLst/>
              <a:gdLst/>
              <a:ahLst/>
              <a:rect l="l" t="t" r="r" b="b"/>
              <a:pathLst>
                <a:path w="480" h="384">
                  <a:moveTo>
                    <a:pt x="480" y="0"/>
                  </a:moveTo>
                  <a:cubicBezTo>
                    <a:pt x="372" y="36"/>
                    <a:pt x="264" y="72"/>
                    <a:pt x="240" y="96"/>
                  </a:cubicBezTo>
                  <a:cubicBezTo>
                    <a:pt x="216" y="120"/>
                    <a:pt x="376" y="96"/>
                    <a:pt x="336" y="144"/>
                  </a:cubicBezTo>
                  <a:cubicBezTo>
                    <a:pt x="296" y="192"/>
                    <a:pt x="56" y="344"/>
                    <a:pt x="0" y="38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59600" y="3200400"/>
              <a:ext cx="609480" cy="53352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0" y="0"/>
                  </a:moveTo>
                  <a:cubicBezTo>
                    <a:pt x="108" y="36"/>
                    <a:pt x="216" y="72"/>
                    <a:pt x="240" y="96"/>
                  </a:cubicBezTo>
                  <a:cubicBezTo>
                    <a:pt x="264" y="120"/>
                    <a:pt x="120" y="104"/>
                    <a:pt x="144" y="144"/>
                  </a:cubicBezTo>
                  <a:cubicBezTo>
                    <a:pt x="168" y="184"/>
                    <a:pt x="276" y="260"/>
                    <a:pt x="384" y="33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11880" y="3809880"/>
              <a:ext cx="838080" cy="152640"/>
            </a:xfrm>
            <a:custGeom>
              <a:avLst/>
              <a:gdLst/>
              <a:ahLst/>
              <a:rect l="l" t="t" r="r" b="b"/>
              <a:pathLst>
                <a:path w="528" h="96">
                  <a:moveTo>
                    <a:pt x="0" y="96"/>
                  </a:moveTo>
                  <a:lnTo>
                    <a:pt x="288" y="96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96"/>
                  </a:lnTo>
                  <a:lnTo>
                    <a:pt x="528" y="9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2600" y="3581280"/>
              <a:ext cx="838080" cy="106704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44440" y="38862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262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4048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35560" y="5867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940280" y="6095880"/>
              <a:ext cx="1295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49560" y="5181480"/>
              <a:ext cx="304920" cy="1219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43"/>
                  </a:lnTo>
                  <a:cubicBezTo>
                    <a:pt x="10800" y="9743"/>
                    <a:pt x="5400" y="10643"/>
                    <a:pt x="0" y="10643"/>
                  </a:cubicBezTo>
                  <a:cubicBezTo>
                    <a:pt x="5400" y="10643"/>
                    <a:pt x="10800" y="11543"/>
                    <a:pt x="10800" y="1244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80480" y="5486400"/>
              <a:ext cx="20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utina de ate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 interrup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48520" y="1066680"/>
            <a:ext cx="57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Introducción al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icrocontro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2098800"/>
            <a:ext cx="58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0480" y="2514600"/>
            <a:ext cx="63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 del sistema Microcontro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emoria y el sistema de E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 de la CP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Interru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72920" y="106668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¿Microprocesador o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icrocontrolad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905120"/>
            <a:ext cx="624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ción 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vag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se basa en aspectos 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bos son capaces de ejecutar una serie de instrucciones previamente program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icrocontrolador es habitualmente más “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todoterre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, mientras que el microprocesador es más “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señori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icrocontrolador suele incluir elementos que habitualmente son periféricos para un microproces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15680" y="1066680"/>
            <a:ext cx="36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Arquitectura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905120"/>
            <a:ext cx="4038480" cy="533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3048120"/>
            <a:ext cx="1523880" cy="91440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572000"/>
            <a:ext cx="1523880" cy="91440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438280"/>
            <a:ext cx="304560" cy="31244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438280"/>
            <a:ext cx="304920" cy="31244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438280"/>
            <a:ext cx="228600" cy="31244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2767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800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27672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8006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86400"/>
            <a:ext cx="761760" cy="685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5880" y="2666880"/>
            <a:ext cx="2667240" cy="3353040"/>
            <a:chOff x="6095880" y="2666880"/>
            <a:chExt cx="2667240" cy="3353040"/>
          </a:xfrm>
        </p:grpSpPr>
        <p:sp>
          <p:nvSpPr>
            <p:cNvPr id="114" name=""/>
            <p:cNvSpPr/>
            <p:nvPr/>
          </p:nvSpPr>
          <p:spPr>
            <a:xfrm>
              <a:off x="6095880" y="2666880"/>
              <a:ext cx="2667240" cy="3353040"/>
            </a:xfrm>
            <a:prstGeom prst="borderCallout1">
              <a:avLst>
                <a:gd name="adj1" fmla="val 18750"/>
                <a:gd name="adj2" fmla="val -8333"/>
                <a:gd name="adj3" fmla="val -6629"/>
                <a:gd name="adj4" fmla="val -613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2200" y="2743200"/>
              <a:ext cx="252720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Unidad Central de Proc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irector del 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preta Instru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(Motorola 68HC11, Zilog Z80, Intel 8086, 386, Pentium, etc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aracterísticas Imp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# instruccio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Hz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us Dato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us Direc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emp, Int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19920" y="2438280"/>
            <a:ext cx="2514600" cy="2743200"/>
            <a:chOff x="6019920" y="2438280"/>
            <a:chExt cx="2514600" cy="2743200"/>
          </a:xfrm>
        </p:grpSpPr>
        <p:sp>
          <p:nvSpPr>
            <p:cNvPr id="117" name=""/>
            <p:cNvSpPr/>
            <p:nvPr/>
          </p:nvSpPr>
          <p:spPr>
            <a:xfrm>
              <a:off x="6019920" y="2438280"/>
              <a:ext cx="2361960" cy="2743200"/>
            </a:xfrm>
            <a:prstGeom prst="borderCallout1">
              <a:avLst>
                <a:gd name="adj1" fmla="val 18750"/>
                <a:gd name="adj2" fmla="val -8333"/>
                <a:gd name="adj3" fmla="val 21412"/>
                <a:gd name="adj4" fmla="val -787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2576520"/>
              <a:ext cx="25146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emo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ugar de almacenamiento de datos e Instrucciones. (Von-Newma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ipos (aleatorias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o volátiles (ROM, PROM, EPROM, EEPROM, FLAS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Volátiles (RAM, DRAM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72200" y="3276720"/>
            <a:ext cx="2590920" cy="1676160"/>
            <a:chOff x="6172200" y="3276720"/>
            <a:chExt cx="2590920" cy="1676160"/>
          </a:xfrm>
        </p:grpSpPr>
        <p:sp>
          <p:nvSpPr>
            <p:cNvPr id="120" name=""/>
            <p:cNvSpPr/>
            <p:nvPr/>
          </p:nvSpPr>
          <p:spPr>
            <a:xfrm>
              <a:off x="6172200" y="3276720"/>
              <a:ext cx="2362320" cy="1676160"/>
            </a:xfrm>
            <a:prstGeom prst="borderCallout1">
              <a:avLst>
                <a:gd name="adj1" fmla="val 18750"/>
                <a:gd name="adj2" fmla="val -8333"/>
                <a:gd name="adj3" fmla="val 72824"/>
                <a:gd name="adj4" fmla="val -88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3352680"/>
              <a:ext cx="251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ispositivos de Entrada y Sali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 con el exterio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atón, Pantalla, Teclado, puerto serie, CDA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16200000">
            <a:off x="4353120" y="38019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S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993600" y="4037040"/>
            <a:ext cx="21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S DE DIRE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910760" y="36878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5880" y="2286000"/>
            <a:ext cx="2514600" cy="1295280"/>
            <a:chOff x="6095880" y="2286000"/>
            <a:chExt cx="2514600" cy="1295280"/>
          </a:xfrm>
        </p:grpSpPr>
        <p:sp>
          <p:nvSpPr>
            <p:cNvPr id="126" name=""/>
            <p:cNvSpPr/>
            <p:nvPr/>
          </p:nvSpPr>
          <p:spPr>
            <a:xfrm>
              <a:off x="6095880" y="2286000"/>
              <a:ext cx="2362320" cy="1295280"/>
            </a:xfrm>
            <a:prstGeom prst="borderCallout1">
              <a:avLst>
                <a:gd name="adj1" fmla="val 18750"/>
                <a:gd name="adj2" fmla="val -8333"/>
                <a:gd name="adj3" fmla="val 48527"/>
                <a:gd name="adj4" fmla="val -424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5880" y="2361960"/>
              <a:ext cx="2514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us de 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Val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pretació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idirec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43600" y="2971800"/>
            <a:ext cx="2514600" cy="1676520"/>
            <a:chOff x="5943600" y="2971800"/>
            <a:chExt cx="2514600" cy="1676520"/>
          </a:xfrm>
        </p:grpSpPr>
        <p:sp>
          <p:nvSpPr>
            <p:cNvPr id="129" name=""/>
            <p:cNvSpPr/>
            <p:nvPr/>
          </p:nvSpPr>
          <p:spPr>
            <a:xfrm>
              <a:off x="5943600" y="2971800"/>
              <a:ext cx="2362320" cy="1676520"/>
            </a:xfrm>
            <a:prstGeom prst="borderCallout1">
              <a:avLst>
                <a:gd name="adj1" fmla="val 18750"/>
                <a:gd name="adj2" fmla="val -8333"/>
                <a:gd name="adj3" fmla="val 41004"/>
                <a:gd name="adj4" fmla="val -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3600" y="2971800"/>
              <a:ext cx="2514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us de dire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onjunto de c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lección de conten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odificación binaria natur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Unidirec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72200" y="3276720"/>
            <a:ext cx="2514600" cy="1310760"/>
            <a:chOff x="6172200" y="3276720"/>
            <a:chExt cx="2514600" cy="1310760"/>
          </a:xfrm>
        </p:grpSpPr>
        <p:sp>
          <p:nvSpPr>
            <p:cNvPr id="132" name=""/>
            <p:cNvSpPr/>
            <p:nvPr/>
          </p:nvSpPr>
          <p:spPr>
            <a:xfrm>
              <a:off x="6172200" y="3276720"/>
              <a:ext cx="2362320" cy="1295280"/>
            </a:xfrm>
            <a:prstGeom prst="borderCallout1">
              <a:avLst>
                <a:gd name="adj1" fmla="val 18750"/>
                <a:gd name="adj2" fmla="val -8333"/>
                <a:gd name="adj3" fmla="val 39828"/>
                <a:gd name="adj4" fmla="val -17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3276720"/>
              <a:ext cx="25146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u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íneas Indepen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rup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Wai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21280" y="10666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La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752480"/>
            <a:ext cx="67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gar en donde se almacenan datos e instrucciones sin diferenciar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l bus de datos, se almacenan en palabras más o menos grandes (8,16,32,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52680" y="3657600"/>
            <a:ext cx="4800600" cy="2133720"/>
            <a:chOff x="3352680" y="3657600"/>
            <a:chExt cx="4800600" cy="2133720"/>
          </a:xfrm>
        </p:grpSpPr>
        <p:grpSp>
          <p:nvGrpSpPr>
            <p:cNvPr id="137" name=""/>
            <p:cNvGrpSpPr/>
            <p:nvPr/>
          </p:nvGrpSpPr>
          <p:grpSpPr>
            <a:xfrm>
              <a:off x="3352680" y="3657600"/>
              <a:ext cx="4800600" cy="2133720"/>
              <a:chOff x="3352680" y="3657600"/>
              <a:chExt cx="4800600" cy="2133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352680" y="4013280"/>
                <a:ext cx="4235760" cy="177768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52680" y="3657600"/>
                <a:ext cx="4800600" cy="355680"/>
              </a:xfrm>
              <a:custGeom>
                <a:avLst/>
                <a:gdLst/>
                <a:ahLst/>
                <a:rect l="l" t="t" r="r" b="b"/>
                <a:pathLst>
                  <a:path w="3264" h="240">
                    <a:moveTo>
                      <a:pt x="0" y="240"/>
                    </a:moveTo>
                    <a:lnTo>
                      <a:pt x="384" y="0"/>
                    </a:lnTo>
                    <a:lnTo>
                      <a:pt x="3264" y="0"/>
                    </a:lnTo>
                    <a:lnTo>
                      <a:pt x="2880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d1df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88440" y="3657600"/>
                <a:ext cx="564480" cy="2133720"/>
              </a:xfrm>
              <a:custGeom>
                <a:avLst/>
                <a:gdLst/>
                <a:ahLst/>
                <a:rect l="l" t="t" r="r" b="b"/>
                <a:pathLst>
                  <a:path w="384" h="1440">
                    <a:moveTo>
                      <a:pt x="0" y="1440"/>
                    </a:moveTo>
                    <a:lnTo>
                      <a:pt x="0" y="240"/>
                    </a:lnTo>
                    <a:lnTo>
                      <a:pt x="384" y="0"/>
                    </a:lnTo>
                    <a:lnTo>
                      <a:pt x="384" y="1200"/>
                    </a:lnTo>
                    <a:lnTo>
                      <a:pt x="0" y="1440"/>
                    </a:lnTo>
                    <a:close/>
                  </a:path>
                </a:pathLst>
              </a:custGeom>
              <a:solidFill>
                <a:srgbClr val="7c994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505320" y="4191120"/>
              <a:ext cx="838080" cy="1447560"/>
              <a:chOff x="3505320" y="4191120"/>
              <a:chExt cx="838080" cy="14475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505320" y="4191120"/>
                <a:ext cx="838080" cy="304560"/>
                <a:chOff x="3505320" y="4191120"/>
                <a:chExt cx="838080" cy="3045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505320" y="419112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886200" y="426708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505320" y="4572000"/>
                <a:ext cx="838080" cy="304920"/>
                <a:chOff x="3505320" y="4572000"/>
                <a:chExt cx="838080" cy="304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05320" y="4572000"/>
                  <a:ext cx="838080" cy="30492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86200" y="4648320"/>
                  <a:ext cx="75600" cy="7632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505320" y="4952880"/>
                <a:ext cx="838080" cy="304920"/>
                <a:chOff x="3505320" y="4952880"/>
                <a:chExt cx="838080" cy="304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505320" y="4952880"/>
                  <a:ext cx="838080" cy="30492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86200" y="5029200"/>
                  <a:ext cx="75600" cy="7632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505320" y="5334120"/>
                <a:ext cx="838080" cy="304560"/>
                <a:chOff x="3505320" y="5334120"/>
                <a:chExt cx="838080" cy="3045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05320" y="533412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86200" y="541008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4495680" y="4191120"/>
              <a:ext cx="838080" cy="1447200"/>
              <a:chOff x="4495680" y="4191120"/>
              <a:chExt cx="838080" cy="14472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495680" y="4191120"/>
                <a:ext cx="838080" cy="304560"/>
                <a:chOff x="4495680" y="4191120"/>
                <a:chExt cx="838080" cy="304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95680" y="419112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76560" y="426708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95680" y="4571640"/>
                <a:ext cx="838080" cy="304560"/>
                <a:chOff x="4495680" y="4571640"/>
                <a:chExt cx="83808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495680" y="457164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76560" y="464760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495680" y="4952880"/>
                <a:ext cx="838080" cy="304200"/>
                <a:chOff x="4495680" y="4952880"/>
                <a:chExt cx="838080" cy="304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495680" y="4952880"/>
                  <a:ext cx="838080" cy="30420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876560" y="502884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495680" y="5333760"/>
                <a:ext cx="838080" cy="304560"/>
                <a:chOff x="4495680" y="5333760"/>
                <a:chExt cx="838080" cy="304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95680" y="533376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876560" y="540972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5486400" y="4191120"/>
              <a:ext cx="838080" cy="1447200"/>
              <a:chOff x="5486400" y="4191120"/>
              <a:chExt cx="838080" cy="1447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486400" y="4191120"/>
                <a:ext cx="838080" cy="304560"/>
                <a:chOff x="5486400" y="4191120"/>
                <a:chExt cx="838080" cy="304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486400" y="419112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867280" y="426708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486400" y="4571640"/>
                <a:ext cx="838080" cy="304560"/>
                <a:chOff x="5486400" y="4571640"/>
                <a:chExt cx="838080" cy="304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486400" y="457164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67280" y="464760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486400" y="4952880"/>
                <a:ext cx="838080" cy="304200"/>
                <a:chOff x="5486400" y="4952880"/>
                <a:chExt cx="838080" cy="30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486400" y="4952880"/>
                  <a:ext cx="838080" cy="30420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867280" y="502884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486400" y="5333760"/>
                <a:ext cx="838080" cy="304560"/>
                <a:chOff x="5486400" y="5333760"/>
                <a:chExt cx="838080" cy="3045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486400" y="533376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67280" y="540972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6477120" y="4191120"/>
              <a:ext cx="838080" cy="1447200"/>
              <a:chOff x="6477120" y="4191120"/>
              <a:chExt cx="838080" cy="14472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6477120" y="4191120"/>
                <a:ext cx="838080" cy="304560"/>
                <a:chOff x="6477120" y="4191120"/>
                <a:chExt cx="838080" cy="3045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477120" y="419112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58000" y="426708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477120" y="4571640"/>
                <a:ext cx="838080" cy="304560"/>
                <a:chOff x="6477120" y="4571640"/>
                <a:chExt cx="838080" cy="304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457164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858000" y="464760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477120" y="4952880"/>
                <a:ext cx="838080" cy="304200"/>
                <a:chOff x="6477120" y="4952880"/>
                <a:chExt cx="838080" cy="3042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477120" y="4952880"/>
                  <a:ext cx="838080" cy="30420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58000" y="502884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477120" y="5333760"/>
                <a:ext cx="838080" cy="304560"/>
                <a:chOff x="6477120" y="5333760"/>
                <a:chExt cx="838080" cy="3045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477120" y="5333760"/>
                  <a:ext cx="838080" cy="304560"/>
                </a:xfrm>
                <a:prstGeom prst="rect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858000" y="5409720"/>
                  <a:ext cx="75600" cy="75960"/>
                </a:xfrm>
                <a:prstGeom prst="ellipse">
                  <a:avLst/>
                </a:prstGeom>
                <a:solidFill>
                  <a:srgbClr val="a1bd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3" name=""/>
          <p:cNvSpPr/>
          <p:nvPr/>
        </p:nvSpPr>
        <p:spPr>
          <a:xfrm>
            <a:off x="2575080" y="354636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3600" y="419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360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3600" y="5334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3600" y="49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396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960" y="419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3960" y="49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3960" y="5334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4680" y="419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468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5400" y="419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4680" y="5334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540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5400" y="49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4680" y="4952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5400" y="5334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28800" y="4800600"/>
            <a:ext cx="2209680" cy="1328040"/>
            <a:chOff x="1828800" y="4800600"/>
            <a:chExt cx="2209680" cy="1328040"/>
          </a:xfrm>
        </p:grpSpPr>
        <p:sp>
          <p:nvSpPr>
            <p:cNvPr id="211" name=""/>
            <p:cNvSpPr/>
            <p:nvPr/>
          </p:nvSpPr>
          <p:spPr>
            <a:xfrm flipH="1">
              <a:off x="2209680" y="48006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800" y="57913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ir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76720" y="4267080"/>
            <a:ext cx="990360" cy="381240"/>
            <a:chOff x="3276720" y="4267080"/>
            <a:chExt cx="990360" cy="381240"/>
          </a:xfrm>
        </p:grpSpPr>
        <p:sp>
          <p:nvSpPr>
            <p:cNvPr id="214" name=""/>
            <p:cNvSpPr/>
            <p:nvPr/>
          </p:nvSpPr>
          <p:spPr>
            <a:xfrm>
              <a:off x="3352680" y="4267080"/>
              <a:ext cx="914400" cy="381240"/>
            </a:xfrm>
            <a:prstGeom prst="cube">
              <a:avLst>
                <a:gd name="adj" fmla="val 4323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276720" y="4343400"/>
              <a:ext cx="838080" cy="304920"/>
              <a:chOff x="3276720" y="4343400"/>
              <a:chExt cx="838080" cy="304920"/>
            </a:xfrm>
          </p:grpSpPr>
          <p:sp>
            <p:nvSpPr>
              <p:cNvPr id="216" name=""/>
              <p:cNvSpPr/>
              <p:nvPr/>
            </p:nvSpPr>
            <p:spPr>
              <a:xfrm>
                <a:off x="3276720" y="4343400"/>
                <a:ext cx="838080" cy="30492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57600" y="4419720"/>
                <a:ext cx="75600" cy="76320"/>
              </a:xfrm>
              <a:prstGeom prst="ellipse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2486880" y="3352680"/>
            <a:ext cx="1344240" cy="1046520"/>
            <a:chOff x="2486880" y="3352680"/>
            <a:chExt cx="1344240" cy="1046520"/>
          </a:xfrm>
        </p:grpSpPr>
        <p:sp>
          <p:nvSpPr>
            <p:cNvPr id="219" name=""/>
            <p:cNvSpPr/>
            <p:nvPr/>
          </p:nvSpPr>
          <p:spPr>
            <a:xfrm rot="5097600">
              <a:off x="2854080" y="3390480"/>
              <a:ext cx="609480" cy="129564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26800 h 1295640"/>
                <a:gd name="textAreaBottom" fmla="*/ 9396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5000" y="33526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6600"/>
                  </a:solidFill>
                  <a:latin typeface="Arial"/>
                </a:rPr>
                <a:t>D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MUJER" descr=""/>
          <p:cNvPicPr/>
          <p:nvPr/>
        </p:nvPicPr>
        <p:blipFill>
          <a:blip r:embed="rId1"/>
          <a:srcRect l="0" t="0" r="1210" b="0"/>
          <a:stretch/>
        </p:blipFill>
        <p:spPr>
          <a:xfrm>
            <a:off x="1219320" y="3382920"/>
            <a:ext cx="914400" cy="2484360"/>
          </a:xfrm>
          <a:prstGeom prst="rect">
            <a:avLst/>
          </a:prstGeom>
          <a:ln w="0">
            <a:noFill/>
          </a:ln>
        </p:spPr>
      </p:pic>
      <p:pic>
        <p:nvPicPr>
          <p:cNvPr id="222" name="ZAPATO" descr=""/>
          <p:cNvPicPr/>
          <p:nvPr/>
        </p:nvPicPr>
        <p:blipFill>
          <a:blip r:embed="rId2">
            <a:lum contrast="12000"/>
          </a:blip>
          <a:srcRect l="0" t="0" r="0" b="5458"/>
          <a:stretch/>
        </p:blipFill>
        <p:spPr>
          <a:xfrm>
            <a:off x="2057400" y="4343400"/>
            <a:ext cx="129528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1066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La 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memoria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fís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7524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r integrada en el interior del microcontro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ción esqu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828800" y="3230640"/>
            <a:ext cx="3308400" cy="2791080"/>
            <a:chOff x="1828800" y="3230640"/>
            <a:chExt cx="3308400" cy="2791080"/>
          </a:xfrm>
        </p:grpSpPr>
        <p:sp>
          <p:nvSpPr>
            <p:cNvPr id="226" name=""/>
            <p:cNvSpPr/>
            <p:nvPr/>
          </p:nvSpPr>
          <p:spPr>
            <a:xfrm>
              <a:off x="2530440" y="3230640"/>
              <a:ext cx="1752840" cy="22096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K x 8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5880" y="3611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5880" y="376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5880" y="3916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25880" y="4068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25880" y="4221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25880" y="4373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25880" y="4525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25880" y="4678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83280" y="376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83280" y="39164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83280" y="4068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83280" y="4221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3280" y="4373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83280" y="4525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3280" y="4678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83280" y="48308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5880" y="48308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5880" y="4983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44640" y="3459240"/>
              <a:ext cx="62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4640" y="3611520"/>
              <a:ext cx="62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784760"/>
              <a:ext cx="62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763800"/>
              <a:ext cx="62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1880" y="361152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11880" y="376380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1880" y="391644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1880" y="409896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11880" y="425124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11880" y="440352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11880" y="455616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11880" y="4708440"/>
              <a:ext cx="625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40280" y="5440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5440320"/>
              <a:ext cx="0" cy="304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1680" y="5745240"/>
              <a:ext cx="62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5320" y="5745240"/>
              <a:ext cx="62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6600"/>
                  </a:solidFill>
                  <a:latin typeface="Times New Roman"/>
                </a:rPr>
                <a:t>R/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95880" y="3124080"/>
            <a:ext cx="1722600" cy="2971800"/>
            <a:chOff x="6095880" y="3124080"/>
            <a:chExt cx="1722600" cy="2971800"/>
          </a:xfrm>
        </p:grpSpPr>
        <p:sp>
          <p:nvSpPr>
            <p:cNvPr id="262" name=""/>
            <p:cNvSpPr/>
            <p:nvPr/>
          </p:nvSpPr>
          <p:spPr>
            <a:xfrm>
              <a:off x="6400800" y="3505320"/>
              <a:ext cx="14176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5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0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0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75080" y="323676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Líneas      Posi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5880" y="3124080"/>
              <a:ext cx="1676520" cy="29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1680" y="31240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95880" y="35053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Dispositivos de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entrada </a:t>
            </a: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y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sal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1752480"/>
            <a:ext cx="679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estar integrados en el interior del microcontro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mportan como una memoria, aunque habitualmente son mucho más l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hay que configurarlos mediante la escritura en una serie de direccione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s serie, paralelo, displays, lineas digitales, DAC, ADC, DSP, discos externos, mode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981080" y="4343400"/>
            <a:ext cx="5867640" cy="762120"/>
            <a:chOff x="1981080" y="4343400"/>
            <a:chExt cx="5867640" cy="762120"/>
          </a:xfrm>
        </p:grpSpPr>
        <p:sp>
          <p:nvSpPr>
            <p:cNvPr id="270" name=""/>
            <p:cNvSpPr/>
            <p:nvPr/>
          </p:nvSpPr>
          <p:spPr>
            <a:xfrm>
              <a:off x="3962520" y="4343400"/>
              <a:ext cx="228600" cy="762120"/>
            </a:xfrm>
            <a:prstGeom prst="rect">
              <a:avLst/>
            </a:prstGeom>
            <a:solidFill>
              <a:srgbClr val="cbb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1080" y="4876920"/>
              <a:ext cx="5867640" cy="228600"/>
            </a:xfrm>
            <a:prstGeom prst="rect">
              <a:avLst/>
            </a:prstGeom>
            <a:solidFill>
              <a:srgbClr val="cbb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057400" y="43434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362320" y="2286000"/>
            <a:ext cx="5410080" cy="2438280"/>
            <a:chOff x="2362320" y="2286000"/>
            <a:chExt cx="5410080" cy="2438280"/>
          </a:xfrm>
        </p:grpSpPr>
        <p:grpSp>
          <p:nvGrpSpPr>
            <p:cNvPr id="274" name=""/>
            <p:cNvGrpSpPr/>
            <p:nvPr/>
          </p:nvGrpSpPr>
          <p:grpSpPr>
            <a:xfrm>
              <a:off x="2666880" y="4343400"/>
              <a:ext cx="4648320" cy="380880"/>
              <a:chOff x="2666880" y="4343400"/>
              <a:chExt cx="4648320" cy="380880"/>
            </a:xfrm>
          </p:grpSpPr>
          <p:sp>
            <p:nvSpPr>
              <p:cNvPr id="275" name=""/>
              <p:cNvSpPr/>
              <p:nvPr/>
            </p:nvSpPr>
            <p:spPr>
              <a:xfrm>
                <a:off x="2666880" y="4572000"/>
                <a:ext cx="4648320" cy="152280"/>
              </a:xfrm>
              <a:prstGeom prst="rect">
                <a:avLst/>
              </a:prstGeom>
              <a:solidFill>
                <a:srgbClr val="a1b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66880" y="4343400"/>
                <a:ext cx="152640" cy="304920"/>
              </a:xfrm>
              <a:prstGeom prst="rect">
                <a:avLst/>
              </a:prstGeom>
              <a:solidFill>
                <a:srgbClr val="a1b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62320" y="2286000"/>
              <a:ext cx="5410080" cy="457200"/>
              <a:chOff x="2362320" y="2286000"/>
              <a:chExt cx="5410080" cy="457200"/>
            </a:xfrm>
          </p:grpSpPr>
          <p:sp>
            <p:nvSpPr>
              <p:cNvPr id="278" name=""/>
              <p:cNvSpPr/>
              <p:nvPr/>
            </p:nvSpPr>
            <p:spPr>
              <a:xfrm>
                <a:off x="2514600" y="2362320"/>
                <a:ext cx="152280" cy="380880"/>
              </a:xfrm>
              <a:prstGeom prst="rect">
                <a:avLst/>
              </a:prstGeom>
              <a:solidFill>
                <a:srgbClr val="a1b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62320" y="2286000"/>
                <a:ext cx="5410080" cy="152280"/>
              </a:xfrm>
              <a:prstGeom prst="rect">
                <a:avLst/>
              </a:prstGeom>
              <a:solidFill>
                <a:srgbClr val="a1b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143000" y="10652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Ejemplo de esquema gener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coger un dato de mem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52480" y="1981080"/>
            <a:ext cx="6019920" cy="3492720"/>
            <a:chOff x="1752480" y="1981080"/>
            <a:chExt cx="6019920" cy="3492720"/>
          </a:xfrm>
        </p:grpSpPr>
        <p:sp>
          <p:nvSpPr>
            <p:cNvPr id="282" name=""/>
            <p:cNvSpPr/>
            <p:nvPr/>
          </p:nvSpPr>
          <p:spPr>
            <a:xfrm>
              <a:off x="1752480" y="2743200"/>
              <a:ext cx="1219320" cy="1600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3560" y="2743200"/>
              <a:ext cx="609840" cy="160020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6560" y="2743200"/>
              <a:ext cx="609840" cy="160020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560" y="2743200"/>
              <a:ext cx="609840" cy="160020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86600" y="2743200"/>
              <a:ext cx="609480" cy="160020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1960" y="2362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59056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384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16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50292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0516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2448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9116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0" y="464832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88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743200" y="4343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8000" y="327672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3484440" y="3374640"/>
              <a:ext cx="11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4869000" y="33620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5681520" y="331128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UERTO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6748200" y="338724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UER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5040" y="510552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us Da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9240" y="198108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us Direc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429000" y="2514600"/>
            <a:ext cx="1219320" cy="20574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434340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720" y="0"/>
                </a:moveTo>
                <a:lnTo>
                  <a:pt x="720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505320" y="4724280"/>
            <a:ext cx="1295280" cy="1524240"/>
            <a:chOff x="3505320" y="4724280"/>
            <a:chExt cx="1295280" cy="1524240"/>
          </a:xfrm>
        </p:grpSpPr>
        <p:sp>
          <p:nvSpPr>
            <p:cNvPr id="315" name=""/>
            <p:cNvSpPr/>
            <p:nvPr/>
          </p:nvSpPr>
          <p:spPr>
            <a:xfrm>
              <a:off x="4572000" y="5486400"/>
              <a:ext cx="228600" cy="15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6019920"/>
              <a:ext cx="152640" cy="228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5257800"/>
              <a:ext cx="228600" cy="15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05320" y="4724280"/>
              <a:ext cx="228600" cy="152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roadway"/>
              </a:rPr>
              <a:t>Mapa de</a:t>
            </a:r>
            <a:r>
              <a:rPr b="0" lang="es-ES_tradnl" sz="2800" spc="-1" strike="noStrike">
                <a:solidFill>
                  <a:srgbClr val="ff6600"/>
                </a:solidFill>
                <a:latin typeface="Broadway"/>
              </a:rPr>
              <a:t> dir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752480"/>
            <a:ext cx="679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Memoria y E/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ueden comportarse de la misma manera, o bien ser diferenciados por el bus de control (IOREQ,MRE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irecciones quedan 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determinadas por circuitos lógicos extern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desde el punto de vista esquemát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 importante: el 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decodif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8760" y="4572000"/>
            <a:ext cx="2087640" cy="1676520"/>
            <a:chOff x="3128760" y="4572000"/>
            <a:chExt cx="2087640" cy="1676520"/>
          </a:xfrm>
        </p:grpSpPr>
        <p:grpSp>
          <p:nvGrpSpPr>
            <p:cNvPr id="322" name=""/>
            <p:cNvGrpSpPr/>
            <p:nvPr/>
          </p:nvGrpSpPr>
          <p:grpSpPr>
            <a:xfrm>
              <a:off x="3505320" y="4572000"/>
              <a:ext cx="1295280" cy="1676520"/>
              <a:chOff x="3505320" y="4572000"/>
              <a:chExt cx="1295280" cy="1676520"/>
            </a:xfrm>
          </p:grpSpPr>
          <p:sp>
            <p:nvSpPr>
              <p:cNvPr id="323" name=""/>
              <p:cNvSpPr/>
              <p:nvPr/>
            </p:nvSpPr>
            <p:spPr>
              <a:xfrm>
                <a:off x="3733920" y="4572000"/>
                <a:ext cx="838080" cy="1447920"/>
              </a:xfrm>
              <a:prstGeom prst="rect">
                <a:avLst/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480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5105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5334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14800" y="6019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72000" y="480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0" y="495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72000" y="5105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7200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7200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72000" y="556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7200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0" y="5867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128760" y="464832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8760" y="495288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8760" y="518148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81600" y="464832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81600" y="480060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81600" y="495288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1600" y="510552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1600" y="525780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81600" y="541008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81600" y="556272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81600" y="5715000"/>
              <a:ext cx="3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963240" y="6248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1:47:24Z</dcterms:created>
  <dc:creator>Administrador</dc:creator>
  <dc:description/>
  <dc:language>en-US</dc:language>
  <cp:lastModifiedBy>VWA</cp:lastModifiedBy>
  <dcterms:modified xsi:type="dcterms:W3CDTF">2003-09-18T14:06:26Z</dcterms:modified>
  <cp:revision>15</cp:revision>
  <dc:subject/>
  <dc:title>Presentación de PowerPoint</dc:title>
</cp:coreProperties>
</file>